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EFAFD-A785-45E1-A407-EF01925ABD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7764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C866-8887-4F7F-9BD0-D450296E8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0C1C6-9EEF-4C59-A602-BFDBD7698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6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7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6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7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17E8-90A5-4C25-A086-2C1D1C155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C17E8-D662-47D9-9893-C27702B5CF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B862-8CDA-49AF-A1D2-03F86B120D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1183-0F49-441F-AABE-36B67CC31F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24466-72A4-4DBB-BF93-AB5EC417B0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08F0-62FC-4106-A076-17531BD34E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800" y="150840"/>
            <a:ext cx="6867360" cy="74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D1FD-4403-4F0A-B10F-6A5F9A3B40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1CAD7-C0B5-459D-B27D-3E9E3CDD3C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FCAD-3305-4DA1-B2AD-B413A7FF5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7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2F7D3-4FA6-4719-A42B-A2A0D40BFB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0542-87F4-44C7-A79F-2D331626DF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97764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38FC-7FD0-4E08-A847-1F18BB7261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7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FA318-242E-4101-BCFC-EA226FA6FD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6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7800" y="182880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6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7800" y="3977640"/>
            <a:ext cx="24768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D1953-E141-4F8E-A02E-1FB192CC84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1208-BEBA-472A-B47F-58AA97D82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D2F07-AEED-4C27-8E6C-5C1D09864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848A-A823-40BD-B44E-AEC4E7661D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0840"/>
            <a:ext cx="6867360" cy="74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1273-F999-4282-845A-E161980BD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29DBA-EE80-417D-9238-5F2DB3A02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800" y="397764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2104-AAD0-477D-BD23-8366D8124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800" y="1828800"/>
            <a:ext cx="37540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77640"/>
            <a:ext cx="76932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7CF0-0637-4A9B-8264-8A1884014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7179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165464-F596-40FD-A0BD-14C0C8AD44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63480" y="2556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29640" y="192960"/>
            <a:ext cx="1025640" cy="157176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1280" cy="1243080"/>
            <a:chOff x="7920" y="5540400"/>
            <a:chExt cx="1781280" cy="124308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5480" cy="102708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09440" cy="20160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4240" cy="6476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0160" cy="590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0960" cy="18900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17360" cy="17460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3120" cy="60480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4560" cy="27288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4440" cy="10332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1280" cy="1235160"/>
              <a:chOff x="7920" y="5540400"/>
              <a:chExt cx="1781280" cy="123516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66880" cy="1121040"/>
                <a:chOff x="792000" y="5654520"/>
                <a:chExt cx="866880" cy="112104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6240" cy="1350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79280" cy="20808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5160" cy="18288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1400" cy="3938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4120" cy="2318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7040" cy="37440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1280" cy="1073160"/>
                <a:chOff x="7920" y="5540400"/>
                <a:chExt cx="1781280" cy="107316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5920" cy="13464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3440" cy="6955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3840" cy="26172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07960" cy="93960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49040" cy="39708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6360" cy="21132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4480" cy="33336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5560" cy="1335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2320" cy="4305240"/>
            <a:chOff x="8680320" y="2116080"/>
            <a:chExt cx="382320" cy="430524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2560" cy="226224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080" y="2116080"/>
              <a:ext cx="322200" cy="25891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6541200" y="-198720"/>
            <a:ext cx="3686040" cy="3529440"/>
            <a:chOff x="6541200" y="-198720"/>
            <a:chExt cx="3686040" cy="3529440"/>
          </a:xfrm>
        </p:grpSpPr>
        <p:grpSp>
          <p:nvGrpSpPr>
            <p:cNvPr id="39" name=""/>
            <p:cNvGrpSpPr/>
            <p:nvPr/>
          </p:nvGrpSpPr>
          <p:grpSpPr>
            <a:xfrm>
              <a:off x="6541200" y="-198720"/>
              <a:ext cx="3686040" cy="3529440"/>
              <a:chOff x="6541200" y="-198720"/>
              <a:chExt cx="3686040" cy="352944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8040" y="1726920"/>
                <a:ext cx="95400" cy="45396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6541200" y="-198720"/>
                <a:ext cx="3686040" cy="3529440"/>
                <a:chOff x="6541200" y="-198720"/>
                <a:chExt cx="3686040" cy="352944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635600" y="-68400"/>
                  <a:ext cx="435240" cy="27288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7777440" y="787320"/>
                  <a:ext cx="770760" cy="9662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281360" y="509040"/>
                  <a:ext cx="1450440" cy="198612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294320" y="79200"/>
                  <a:ext cx="2179080" cy="297324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362080" y="2314080"/>
                  <a:ext cx="481320" cy="26424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259480" y="2059200"/>
                  <a:ext cx="517680" cy="3132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665480" y="341640"/>
                  <a:ext cx="517680" cy="3214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586640" y="140040"/>
                  <a:ext cx="511200" cy="3013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3720" cy="14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5120" y="235080"/>
            <a:ext cx="3784680" cy="1774800"/>
            <a:chOff x="195120" y="235080"/>
            <a:chExt cx="3784680" cy="1774800"/>
          </a:xfrm>
        </p:grpSpPr>
        <p:sp>
          <p:nvSpPr>
            <p:cNvPr id="89" name=""/>
            <p:cNvSpPr/>
            <p:nvPr/>
          </p:nvSpPr>
          <p:spPr>
            <a:xfrm>
              <a:off x="281160" y="281160"/>
              <a:ext cx="3568680" cy="16110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3520" y="414360"/>
              <a:ext cx="3559320" cy="159552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2400" y="546120"/>
              <a:ext cx="2359080" cy="1455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5120" y="235080"/>
              <a:ext cx="3784680" cy="1712880"/>
              <a:chOff x="195120" y="235080"/>
              <a:chExt cx="3784680" cy="1712880"/>
            </a:xfrm>
          </p:grpSpPr>
          <p:sp>
            <p:nvSpPr>
              <p:cNvPr id="93" name=""/>
              <p:cNvSpPr/>
              <p:nvPr/>
            </p:nvSpPr>
            <p:spPr>
              <a:xfrm>
                <a:off x="3182760" y="1482840"/>
                <a:ext cx="333720" cy="3366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120" y="235080"/>
                <a:ext cx="3784680" cy="17128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4440" y="250920"/>
                <a:ext cx="2673360" cy="971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49440" y="398520"/>
                <a:ext cx="357120" cy="647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343160" y="851040"/>
                <a:ext cx="1093680" cy="5745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7610040" y="4128480"/>
            <a:ext cx="1360080" cy="1533960"/>
            <a:chOff x="7610040" y="4128480"/>
            <a:chExt cx="1360080" cy="1533960"/>
          </a:xfrm>
        </p:grpSpPr>
        <p:sp>
          <p:nvSpPr>
            <p:cNvPr id="99" name=""/>
            <p:cNvSpPr/>
            <p:nvPr/>
          </p:nvSpPr>
          <p:spPr>
            <a:xfrm rot="7320000">
              <a:off x="7794000" y="4657320"/>
              <a:ext cx="995400" cy="4618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7320000">
              <a:off x="7773120" y="4637880"/>
              <a:ext cx="992160" cy="45720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7320000">
              <a:off x="7939800" y="4624920"/>
              <a:ext cx="657000" cy="4176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610040" y="4128480"/>
              <a:ext cx="1360080" cy="1533960"/>
              <a:chOff x="7610040" y="4128480"/>
              <a:chExt cx="1360080" cy="1533960"/>
            </a:xfrm>
          </p:grpSpPr>
          <p:sp>
            <p:nvSpPr>
              <p:cNvPr id="103" name=""/>
              <p:cNvSpPr/>
              <p:nvPr/>
            </p:nvSpPr>
            <p:spPr>
              <a:xfrm rot="7320000">
                <a:off x="7723440" y="5090040"/>
                <a:ext cx="112320" cy="1479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7320000">
                <a:off x="7628040" y="4506840"/>
                <a:ext cx="1323360" cy="7768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320000">
                <a:off x="8015040" y="4670640"/>
                <a:ext cx="936360" cy="4370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320000">
                <a:off x="8662320" y="4447440"/>
                <a:ext cx="122040" cy="29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320000">
                <a:off x="8126280" y="4696920"/>
                <a:ext cx="380160" cy="2566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6867360" cy="15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32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FA634-2E4C-4B7B-85BE-9BDAC702C7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49440" y="2852640"/>
            <a:ext cx="6032520" cy="22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ЕЂУНАРОДН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K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АСИФИКАЦИЈА БОЛЕСТ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MK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5435640" y="4149720"/>
            <a:ext cx="2881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858000"/>
            <a:ext cx="1440" cy="14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1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754200" y="596880"/>
            <a:ext cx="7489800" cy="546120"/>
          </a:xfrm>
          <a:custGeom>
            <a:avLst/>
            <a:gdLst/>
            <a:ahLst/>
            <a:rect l="l" t="t" r="r" b="b"/>
            <a:pathLst>
              <a:path w="8238743" h="618743">
                <a:moveTo>
                  <a:pt x="8238743" y="19812"/>
                </a:moveTo>
                <a:lnTo>
                  <a:pt x="8238743" y="0"/>
                </a:lnTo>
                <a:lnTo>
                  <a:pt x="0" y="0"/>
                </a:lnTo>
                <a:lnTo>
                  <a:pt x="0" y="618743"/>
                </a:lnTo>
                <a:lnTo>
                  <a:pt x="19812" y="618743"/>
                </a:lnTo>
                <a:lnTo>
                  <a:pt x="19812" y="19811"/>
                </a:lnTo>
                <a:lnTo>
                  <a:pt x="9143" y="19812"/>
                </a:lnTo>
                <a:lnTo>
                  <a:pt x="19812" y="9144"/>
                </a:lnTo>
                <a:lnTo>
                  <a:pt x="8238743" y="19812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415800" y="403200"/>
            <a:ext cx="8312400" cy="6051600"/>
          </a:xfrm>
          <a:custGeom>
            <a:avLst/>
            <a:gdLst/>
            <a:ahLst/>
            <a:rect l="l" t="t" r="r" b="b"/>
            <a:pathLst>
              <a:path w="9143999" h="6857999">
                <a:moveTo>
                  <a:pt x="9143999" y="3428999"/>
                </a:moveTo>
                <a:lnTo>
                  <a:pt x="0" y="3428999"/>
                </a:lnTo>
                <a:lnTo>
                  <a:pt x="0" y="6857999"/>
                </a:lnTo>
                <a:lnTo>
                  <a:pt x="9143999" y="6857999"/>
                </a:lnTo>
                <a:lnTo>
                  <a:pt x="9143999" y="34289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977760" y="792000"/>
            <a:ext cx="73663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3362"/>
              </a:lnSpc>
              <a:spcBef>
                <a:spcPts val="17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vizije Međunarodne klasifikacije bolesti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vreda i uzroka smrti, MK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ts val="1962"/>
              </a:lnSpc>
              <a:spcBef>
                <a:spcPts val="1261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0. – Prva međunarodna konferencija za reviziju Bertijonove liste uzroka smrti.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 klasifikacija uzroka smrti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716040" y="1895400"/>
            <a:ext cx="177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463"/>
              </a:lnSpc>
              <a:spcBef>
                <a:spcPts val="74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027080" y="2379600"/>
            <a:ext cx="6620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9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8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689120" y="2379600"/>
            <a:ext cx="15336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 algn="just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 algn="just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 Međunarodna 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3232080" y="2379600"/>
            <a:ext cx="13842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 algn="just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 algn="just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 konferencija 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4624560" y="2379600"/>
            <a:ext cx="2934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 algn="just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 algn="just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za 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4927680" y="2379600"/>
            <a:ext cx="12128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 algn="just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 algn="just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reviziju IV reviziju V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16040" y="2452680"/>
            <a:ext cx="1778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463"/>
              </a:lnSpc>
              <a:spcBef>
                <a:spcPts val="74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8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8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027080" y="3618000"/>
            <a:ext cx="662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8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1689120" y="3618000"/>
            <a:ext cx="1539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3232080" y="36180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4624560" y="3618000"/>
            <a:ext cx="298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/>
          <p:nvPr/>
        </p:nvSpPr>
        <p:spPr>
          <a:xfrm>
            <a:off x="4927680" y="3618000"/>
            <a:ext cx="29811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 reviziju.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716040" y="3689280"/>
            <a:ext cx="1778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463"/>
              </a:lnSpc>
              <a:spcBef>
                <a:spcPts val="74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1027080" y="3865680"/>
            <a:ext cx="49863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lasifikacija bolesti, povreda i uzroka smrti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1027080" y="4173480"/>
            <a:ext cx="662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55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5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5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1689120" y="4173480"/>
            <a:ext cx="15462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3232080" y="4173480"/>
            <a:ext cx="13892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 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4624560" y="4173480"/>
            <a:ext cx="298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100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4927680" y="4173480"/>
            <a:ext cx="14000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II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6000"/>
              </a:lnSpc>
              <a:spcBef>
                <a:spcPts val="99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reviziju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16040" y="4246560"/>
            <a:ext cx="1778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1463"/>
              </a:lnSpc>
              <a:spcBef>
                <a:spcPts val="74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8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marL="11160">
              <a:lnSpc>
                <a:spcPct val="92000"/>
              </a:lnSpc>
              <a:spcBef>
                <a:spcPts val="986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9999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027080" y="5102280"/>
            <a:ext cx="6620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9.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1689120" y="5102280"/>
            <a:ext cx="1539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3232080" y="5102280"/>
            <a:ext cx="1389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ferencij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4624560" y="5102280"/>
            <a:ext cx="2984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4927680" y="5102280"/>
            <a:ext cx="28922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reviziju.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narodn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1027080" y="5349960"/>
            <a:ext cx="3605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čka klasifikacija bolesti i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4635360" y="5349960"/>
            <a:ext cx="26812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160">
              <a:lnSpc>
                <a:spcPts val="2174"/>
              </a:lnSpc>
              <a:spcBef>
                <a:spcPts val="113"/>
              </a:spcBef>
              <a:tabLst>
                <a:tab algn="l" pos="0"/>
                <a:tab algn="l" pos="11160"/>
                <a:tab algn="l" pos="468360"/>
                <a:tab algn="l" pos="925560"/>
                <a:tab algn="l" pos="1382760"/>
                <a:tab algn="l" pos="1839960"/>
                <a:tab algn="l" pos="2297160"/>
                <a:tab algn="l" pos="2754360"/>
                <a:tab algn="l" pos="3211560"/>
                <a:tab algn="l" pos="3668760"/>
                <a:tab algn="l" pos="4125960"/>
                <a:tab algn="l" pos="4583160"/>
                <a:tab algn="l" pos="5040360"/>
                <a:tab algn="l" pos="5497560"/>
                <a:tab algn="l" pos="5954760"/>
                <a:tab algn="l" pos="6411960"/>
                <a:tab algn="l" pos="6869160"/>
                <a:tab algn="l" pos="7326360"/>
                <a:tab algn="l" pos="7783560"/>
                <a:tab algn="l" pos="8240760"/>
                <a:tab algn="l" pos="8697960"/>
                <a:tab algn="l" pos="9155160"/>
                <a:tab algn="l" pos="9601200"/>
                <a:tab algn="l" pos="10058400"/>
                <a:tab algn="l" pos="105156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dravstvenih problema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4360" y="549360"/>
            <a:ext cx="7696080" cy="63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енутно је у употреби X ревизија Међународне класификације  боле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2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сета ревизија MKБ усвојена је на  43.скупштини СЗО 17.маја 1990. са ступањем на снагу 01.01.1993.год. и обавезна је за све чланице СЗ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авезна примена ове   класификације у СРЈ је од 01.01.1997.го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-63360"/>
            <a:ext cx="68706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сновни критеријуми за класификациј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1413000"/>
            <a:ext cx="7696080" cy="53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Етиологија обољењ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инфективне и паразитарне болести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Анатомска локализација или системи органа где се јавља болес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пр. болести респираторног система, болестциркулаторног система, итд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Морфологиј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неоплазме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c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Околности почетка болести или узрока смрт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Е-листа или спољни узроци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omic Sans MS"/>
              </a:rPr>
              <a:t>Десета MKБ има 21 групу болести</a:t>
            </a:r>
            <a:r>
              <a:rPr b="0" lang="en-US" sz="24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836640"/>
            <a:ext cx="77724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6600" indent="-606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Десета ревизија користи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четворомесне алфанумеричке шифре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са словом на првом и бројем на другом, трећем и четвртом месту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Четврто место налази се иза децималне тачке A16.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За међународна извештавања (према СЗО) користе се тромесне шифре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Шифре се крећу од A00.0 do Z99.9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606600" indent="-606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836640"/>
            <a:ext cx="769608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ви знак (прво место) MKБ шифре је слово. За словну ознаку узета је енглеска абецеда, а свако слово означава одређену групу болести, изузе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ова D које се користи у Групи II (Тумори) и Групи III (Болести крви и болести крвотворних органа и поремећаја имунитета) 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ова H koje се користи у Групи VII (Болести ока и припоја ока) i Групи VIII (Болести ува и болести мастоидног наставка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Четири групе  (Групе I, II, XIX i XX) користе више од једног слова на првом мес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492360" y="2924280"/>
            <a:ext cx="2641680" cy="1441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20.0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1219320" y="18288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990000" y="914400"/>
            <a:ext cx="3638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лово - Oзначава припаднос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ијагностичком поглављ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1700280"/>
            <a:ext cx="11509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2122200" y="5084640"/>
            <a:ext cx="435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значава дијагностичку категориј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556000" y="3654360"/>
            <a:ext cx="1635120" cy="14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6403320" y="1371600"/>
            <a:ext cx="17733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значава тип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ремећај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008760" y="2421000"/>
            <a:ext cx="5824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112680"/>
            <a:ext cx="687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КБ-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900000" y="996840"/>
            <a:ext cx="746784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19040" indent="-379440" algn="ctr">
              <a:spcBef>
                <a:spcPts val="7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mic Sans MS"/>
              </a:rPr>
              <a:t>Неупотребљена шифра “U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7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7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79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64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за привремену доделу новим болестима непознате етиологије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64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ve MKB-10 šifre za COVID-19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64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       •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07.1 COVID-19, identifikovan viru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19040" indent="-379440" algn="ctr">
              <a:spcBef>
                <a:spcPts val="649"/>
              </a:spcBef>
              <a:tabLst>
                <a:tab algn="l" pos="0"/>
                <a:tab algn="l" pos="419040"/>
                <a:tab algn="l" pos="876240"/>
                <a:tab algn="l" pos="1333440"/>
                <a:tab algn="l" pos="1790640"/>
                <a:tab algn="l" pos="2247840"/>
                <a:tab algn="l" pos="2705040"/>
                <a:tab algn="l" pos="3162240"/>
                <a:tab algn="l" pos="3619440"/>
                <a:tab algn="l" pos="4076640"/>
                <a:tab algn="l" pos="4533840"/>
                <a:tab algn="l" pos="4991040"/>
                <a:tab algn="l" pos="5448240"/>
                <a:tab algn="l" pos="5905440"/>
                <a:tab algn="l" pos="6362640"/>
                <a:tab algn="l" pos="6819840"/>
                <a:tab algn="l" pos="7277040"/>
                <a:tab algn="l" pos="7734240"/>
                <a:tab algn="l" pos="8191440"/>
                <a:tab algn="l" pos="8648640"/>
                <a:tab algn="l" pos="9105840"/>
                <a:tab algn="l" pos="9563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U07.2 COVID-19, nije identifikovan viru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660840" y="1628640"/>
            <a:ext cx="150012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4360" y="981000"/>
            <a:ext cx="7696080" cy="45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во U се не кори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ифре U00-U49 користиће се за шифрирање нових болести непознате етиологиј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Шифре U50-U99 могу се користити код истраживањ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19928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злике између IX и X ревизија Међународне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ласификације болести, повреда и узрока смр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413000"/>
            <a:ext cx="791856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ts val="3135"/>
              </a:lnSpc>
              <a:spcBef>
                <a:spcPts val="162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ке болести су из једне прешле у другу груп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болести крви и крвотворних органа и поремећаји имунитета; тумори; деле слов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135"/>
              </a:lnSpc>
              <a:spcBef>
                <a:spcPts val="162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аздвајање неких груп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обољења нервног система и чула: болести нервог система 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болести ока и припојака ока и болести ува и бол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стоидног наставка – 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135"/>
              </a:lnSpc>
              <a:spcBef>
                <a:spcPts val="162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еђање због повезаности у настајању патолошког процеса,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IV до  XVI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групе: болести мокраћно-полног система, трудноћа, рађање и бабиње, и стања у порођајном  периоду, урођене наказности, деформације и хромозомске ненормалости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ts val="3135"/>
              </a:lnSpc>
              <a:spcBef>
                <a:spcPts val="162"/>
              </a:spcBef>
              <a:buClr>
                <a:srgbClr val="7030a0"/>
              </a:buClr>
              <a:buFont typeface="Times New Roman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купно 21. група болест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0"/>
          <a:ext cx="8497800" cy="6858000"/>
        </p:xfrm>
        <a:graphic>
          <a:graphicData uri="http://schemas.openxmlformats.org/drawingml/2006/table">
            <a:tbl>
              <a:tblPr/>
              <a:tblGrid>
                <a:gridCol w="1714680"/>
                <a:gridCol w="4910040"/>
                <a:gridCol w="1873080"/>
              </a:tblGrid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зне и паразитарне боле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00-B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м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00-D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крви и болести крвотворних органа и поремећаја имуните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жлезда са унутрашњим лучењем, исхране и метаболиз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00-E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шевни поремећаји и поремећаји понашањ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нервног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ока и припоја 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V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ува и болести мастоидног настав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система крвот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система за дисањ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система за варењ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коже и болести поткожног тк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мишићно-коштаног система и везивног тки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O-M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сти мокраћно-полног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ноћа, рађање и бабињ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ња у порођајном пери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V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ђене наказности, деформације и хромозомске ненормал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VI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и, знаци и патолошки клинички и лабораторијски нала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I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реде, тровања и последице деловања спољних факто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љашњи узроци обољевања и умирањ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обраћајни удес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 спољашњи узроци повређивањ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икације медицинског и хирушког лечењ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01-Y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01-V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00-X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40-Y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XX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sr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ори који утичу на здравствено стање и контакт са здравственом служб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76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00-Z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0" y="86662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8360" y="765000"/>
            <a:ext cx="820728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КБ-10 је међународна класификација болести и сродних здравствених проблем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IC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(International Classification of Diseases and Related Health Proble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дајеје Светска здравствена организац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979640" y="3252960"/>
            <a:ext cx="5184720" cy="28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15228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lnSpc>
                <a:spcPct val="150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00 - К93 Bolesti sistema za varen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lnSpc>
                <a:spcPct val="150000"/>
              </a:lnSpc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00- K14 Bolesti usne šupljine, pljuvačnih žlezda I vil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4360" y="333360"/>
            <a:ext cx="7696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Bolesti usta, pljuvačnih žlezda i vilica (K00-K14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 Poremećaji razvoja i nicanja zuba - Disordines evolutionis et eruptionis denti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0 Urođeni nedostatak zuba - Anodonti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1 Prekobrojni zubi - Dentes supernumerar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2 Nepravilan oblik i veličina zuba - Magnitudo et forma dentium abnormal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3 Šareni zubi - Dentes versicol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4 Poremećaji stvaranja zuba - Disordines formationis denti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5 Nasledne anomalije strukture zuba - Anomaliae structurae dentium congenit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6 Poremećaji nicanja zuba - Disordines eruptionis denti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7 Sindrom izbijanja zuba - Syndroma dentition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Comic Sans MS"/>
              </a:rPr>
              <a:t>K00.8 Drugi poremećaji razvoja zuba - Disordines evolutionis dentium ali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1508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ernational Classification of Diseases (ICD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who.int/classifications/icd/en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4360" y="-54000"/>
            <a:ext cx="6870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Четворомесне дијагностичке поткатегори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1268280"/>
            <a:ext cx="82803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Иако нису обавезне за пријавњивање на међународном нивоу, већина тромесних категорија је подељена помоћу четврте, нумеричке ознаке после децималне тачке, до десет поткатегориј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D23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броћудни тумори кож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0      Доброћудни тумори коже ус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1      Доброћудни тумори коже капка о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2     Доброћудни тумори коже ув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3     Доброћудни тумори коже других делова лиц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4     Доброћудни тумори коже врат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5     Доброћудни тумори коже труп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6     Доброћудни тумори коже рук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7     Доброћудни тумори коже ног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23.9     Доброћудни тумори коже неозначе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68360" y="111240"/>
            <a:ext cx="7088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Двоструко шифрирање неких дијагноза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истем крстића и звездиц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1828800"/>
            <a:ext cx="7696080" cy="36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Многе исте дијагнозе имају двоструко шифрирање, обележено са + i *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+(крстић) означава етиологију болести;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*(звездица) означава локализацију, односно оболели орган, односно систем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mic Sans MS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74.0+         Conjunctivitis chlamydialis  (H13.1*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A39.0+         Meningitis meningococcica   (G01*)     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B25.0+         Pneumonitis cytomegaloviralis (J17.1*)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9640" y="184464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ЛАСИФИКАЦИЈА БОЛЕСТИ ЈЕ СИСТЕМ КАТЕГОРИЈА ГДЕ СЕ ОБОЉЕЊА СВРСТАВАЈУ ПРЕМА УТВРЂЕНИМ КРИТЕРИЈУМИ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03640" y="4076640"/>
            <a:ext cx="26636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1413000"/>
            <a:ext cx="7696080" cy="40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KБ СЕ КОРИСТИ ЗА ПРЕВОЂЕЊЕ ДИЈАГНОЗА БОЛЕСТИ И ДРУГИХ ЗДРАВСТВЕНИХ ПРОБЛЕМА СА РЕЧИ У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АЛФАНУМЕРИЧКУ ШИФРУ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ШТО ОМОГУЋАВА ЈЕДИНСТВЕНО ЧУВАЊЕ, ПОНОВНО ПРОНАЛАЖЕЊЕ И АНАЛИЗУ ПОДАТА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1557360"/>
            <a:ext cx="76960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Љ МЕЂУНАРОДНЕ KЛАСИФИКАЦИЈЕ БОЛЕСТИ (MKБ) ЈЕ ДА ОМОГУЋИ СИСТЕМАТСКО ПРАЋЕЊЕ, АНАЛИЗУ, ТУМАЧЕЊЕ И ПОРЕЂЕЊЕ ПРИКУПЉЕНИХ ПОДАТАКА О СМРТНОСТИ И ОБОЉЕВАЊУ У РАЗЛИЧИТИМ ЗЕМЉАМА ИЛИ РЕГИОНИМА И ЗА РАЗЛИЧИТ ВРЕМЕНСКИ ПЕРИОД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150840"/>
            <a:ext cx="6870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413000"/>
            <a:ext cx="769608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5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Употреба четворознаковне шифре МКБ-је боља и прецизнија од дијагнозе на латинском или неком другом језику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39840">
              <a:spcBef>
                <a:spcPts val="9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476280"/>
            <a:ext cx="769608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треба и значај класификовања болести, повреда и узрока смрти запаженa је знатно пре него што је усвојена прва међународна класификациј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чеци класификације датирају из XVIII века, али су то били појединачни покушаји (Far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856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d,Espine) израде класификациј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9640" y="620640"/>
            <a:ext cx="791208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I Mеђународној конференцији (у Паризу 1900.) прихваћена је I Mеђународна класификација узрока смр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бог сталних промена фактора животне околине, напретка медицинске науке и нових открића у медицини, било је потребно извршити ревизије MKБ-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I Mеђународној конференцији у Паризу договорено је да се ревизија врши      сваких10 год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836640"/>
            <a:ext cx="769608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ве до 1948. (до VI ревизије), међународне класификације болести односиле су се само на узроке смрти, a од VI ревизије (1948.) и на класификацију боле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еђународна класификација примењује се у Југославији од 1959. год. (Шеста ревизија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2:43:18Z</dcterms:created>
  <dc:creator>Dejana</dc:creator>
  <dc:description/>
  <dc:language>en-US</dc:language>
  <cp:lastModifiedBy>Majda</cp:lastModifiedBy>
  <dcterms:modified xsi:type="dcterms:W3CDTF">2020-09-18T17:30:32Z</dcterms:modified>
  <cp:revision>85</cp:revision>
  <dc:subject/>
  <dc:title>PROMOCIJA ZDRAVLJA</dc:title>
</cp:coreProperties>
</file>