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81A3-25E2-4C7B-935B-ACC2EE93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70CA-5541-4CDA-9B51-B313018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2202F-BD03-44FF-8DFC-595FEF68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67ACC-D163-4836-9DFA-D1FE2AD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75115-B426-4945-B4F3-BB775008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C1AE3-A28B-491F-984E-0A11A4F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987BB-550E-422D-832E-F482C0F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A2DD9-ADBC-45B5-8A53-DF02CAD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42F6E-56DD-42A1-9306-083913BE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F835E-2BC6-45E1-80EB-B94424AB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292CD-CC56-4586-88B3-541E97DD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67F77-0AC2-45B6-9701-327DCAEF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B9AD-4B7B-4C47-AAD2-8DC6BB71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AD6DD-C872-4206-BF7A-928DB49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DC832-AAE5-4591-90DB-CCC7A375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63825-A2FC-4072-B677-DC3C9F8D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8D98F-AA8B-4CDF-91FF-02FD64A5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36759-4BD2-4DB5-8E4C-E99F3DE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DC19E-54D1-43CB-906C-A816B171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2F4AF-528E-480E-9B4A-E138CF4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6B716-1BCB-4F73-9232-0D18B99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DDE87-82ED-4726-A203-C8707333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549BD-6F41-444B-B04E-6091DE56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5C8F-0A36-44F6-87FC-080BF3A8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8F7CC-671C-4D56-B60A-C10049D3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C8CF81-C4C1-4C97-9CF1-ECB03FC9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33912D-1F1D-4AC4-80AE-65BE1396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D3EF08-A0A9-4356-B7A1-D6C66AEF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3A88EE-8197-47B9-8038-0F6DFC5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4EF5A5-F2AD-492B-A6FC-AD79D24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A82BB0-A452-48B2-AC8B-8BB57C03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7419AB-E331-422C-BCC8-35C5EA3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93702A-02BE-41B1-AB82-F1BB5C43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8F8736-DB3B-488E-A6C2-670B75E1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F082-F496-4CE5-A1AE-B4033675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54C121-2D9C-42BE-B4CF-D0199116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028A7D-FAB9-4774-B806-A6E50BCC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55C3D9-8480-4FC1-8B84-5BEE5FCD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B22C0-81E3-43B8-85B0-9B6D81F4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8BB5B-D358-4196-A4B2-78734DA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E239F-D940-4EE0-8BD7-18A6FFB2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8B79D-F740-43BC-B3AB-2149AB79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8EA54-2FB2-4CDF-B4DE-35459F2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2FCDD-1A93-4F67-AB99-5D072C6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42B19-B6C9-4DFD-971C-32A89E2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DD29-41DA-4E84-87D9-D3D0B69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E8653-35DE-4A1B-96A8-A43BB74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4A5D3-7C6C-4B47-91E4-953E52B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EC3DF-C3C1-4E67-86D1-B1D0EBC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B5BF5-0AE2-4397-ACF5-265AA66D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38FF3-8AB0-4077-B939-84D2F59F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83AF4-B08E-4E61-8538-D5550326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A8474-7313-4CA0-92D1-A499060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BF215-A3EB-429C-839B-950C0EE0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D0F50-966C-47CD-96DF-AD404C6A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61C29-FF79-46BE-8E14-8FF730BE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8679-B9FB-4CB3-A981-3706D41D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60A33-D5E5-4E90-99D4-E735DEFF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C1D73-AD12-4F84-96E1-DBC5DAC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226A6-2193-43C6-BEA1-18E7CF9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5ED00-64C5-45C5-A512-88BA36A8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73D2A-102F-4F5E-97DD-F41A93DA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0A49A-1AE5-48D1-9512-049F66EE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5EA91-A75B-44A7-AEB0-182290D7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2399A7-BB55-497C-9F66-9109448F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32DAA9-1747-499E-920B-9EA82B11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778C4A-E11D-4F8A-B574-6E473037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9FB-2C42-497F-A7F6-70FF4B99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CF1646-D219-4240-B9C5-F3F19EC9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C5EE50-3B98-4250-BF89-3215FD5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AF8D3D-9CE2-4D5B-9050-A0DF3EE6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9E6BF0-F082-4DC1-8860-AE3C5EDA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3D47DC-5F53-4FFC-A60E-4D54349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C66AEF-92C4-4247-9C17-C9EE2DE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545FA9-94F2-473C-ABB7-D1C1521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EB1056-8E16-4105-AF7F-C4AA2B92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AA15B9-E9AD-48D7-90C8-7712E8EA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ED17D-D6D2-4FCD-B863-23ABD104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CEB1-A920-480E-91F0-BEDEBB70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0B8CA-7619-4F55-B869-83E4F5F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5B3F2-C0F9-4566-A10E-258461FF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8FBFC-5204-4540-B300-1885482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65DD0-D400-4601-AFE7-B49EA613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7F975-EDAB-40EE-B423-9E3F58F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01869-5067-4905-A13F-221CE28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190B5-A505-4694-A450-4CFA7C5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5DAFC-4B9C-487C-9886-B91DBE8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A379B-0AAD-4CFF-8536-F2A8734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FE056-E861-4958-93EF-2B1146A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8BB8-AB40-41F0-9050-A5B91415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D7FD5-946E-4625-A873-A4ACC0CA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E999-03EE-4039-9D89-59BFEDE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15CF-1A76-4DD7-9289-EA278576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0015-23C7-4F6B-A895-598760B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FBDA-C629-41D6-970D-994E5BA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DDF0-0576-4C5B-87BD-0B44820F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9D3C-39C7-4E05-9C12-0FF4B2A2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0DBE-66B7-4DAD-A642-15DCE3C3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3AA1-C8EA-4CE3-BB60-E7288DCF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D37B-C7AE-4046-B890-26CCF76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626B-17EF-4662-8629-7098E185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1B4F-27D4-4783-AAB3-F4E3F91C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9578-645F-429C-B758-56784028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7775-AE69-4EA5-A468-5E6FF86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C1A6-92BF-42A6-AC28-C80839A9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E111-E26D-425B-BCE9-C6D7450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A8C9-6F17-4CFE-94A4-4AB062AC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F534-C04C-4D7F-B5E9-F1D99A6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085F-95F7-4C10-BFB4-C67AB9C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337E-5FA7-4F4A-B18E-C42BB84F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4C04-84A9-439F-ABC2-366C3FF2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BFDD-4D45-4C15-AF4E-4668C5B4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5354-B2D0-4B3E-9331-6E948FF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0D37-DE53-4617-A2F0-5F57191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105D-FC2C-44F4-A49D-EB26426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6171A-906D-4643-9FFD-AABC6406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F89B-6B48-40D7-995A-EDE2AC04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B3BB-1517-4646-A3E3-E4F5C56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EAD5-652E-4888-B90A-9489B52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8064-4608-4214-A8AB-5C37408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1A45-EF44-4AB0-8879-2573D05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9CEDE-0F88-4860-85D7-552B646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E879-0CDC-4DEE-A25B-D3017201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5AA7-D95B-4E95-99E6-BDAC7BB9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E721-4858-4DB4-B1BC-9A5C31C7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456B-6D49-4560-BBD6-A86715D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4530-5E8E-4177-A48D-070266B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A240-5568-4D72-AD04-D30D5AE2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C63A-FEE4-4A1C-8715-552CCA9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0F57-012A-4C47-A2B1-6FE13CA0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F6B1-E981-48EC-B778-CF9A326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D9EE7-19F3-4924-A65C-A75B070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BDF7-7E85-41D0-8672-FC2AE01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C17A-D90B-41BC-B1DF-DB10FCC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6084-B7B0-4080-B304-C3703E30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C60C-33A6-4507-AD08-239B8220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E5B5-5A9A-4510-86C8-2717F9D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F36C-E0F7-4686-BD88-88002876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1FFB-620F-40DB-97CE-86DB5CD9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E518-6B57-468D-9E62-83D77E7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E4CD-A901-49F6-8BFD-8E85B13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A0A0-766F-46EB-A03E-C726024A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F387-414D-4575-87D2-7910D17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785B1-068A-47D8-97A0-A2B12D1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97FF0-5F7F-45E0-B091-89E5B824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C17B3-26B5-4DAB-A9A5-A61C1193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43B3-C8C2-4B38-9335-D1F9050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F7DA-C949-41B5-BDF0-B7DDD2E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BDB7-20B0-4601-B7F8-1D49D51C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2AF8-58CD-463D-86A6-2B91CFD2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FC1A-DCF9-4820-86A0-4FD18AAF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F383-7C41-4248-9B92-6E993E27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CFA1-F8B5-413D-8FBF-222D1BF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B2864-224C-4DAB-A0D3-7A5B92B1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006A-8349-41AE-9C96-07EE01B4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EEF6-D3C4-4274-85D2-048F4F11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6043-F1DD-4E75-88A2-1B20653D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5B2A-583C-4B15-9EEB-070D099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587C-306F-4D24-9C82-911F87C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E8D56-7AF1-4842-98E9-DC0EE08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74E6B-CC59-4F25-BB3F-5A73CDB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1FF3-A725-4AC1-AE4F-BBCD207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096E9-77B3-433A-8E45-65647348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32691-23F1-4EDA-9474-DEFCED44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640DB-054A-408E-82A3-3AD10A3F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8AC78-A823-4FF5-AB2E-8CBC5632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6240A-DEA8-4614-9811-8503599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1C3B5-710E-4318-B352-9B925D8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5802-D020-468A-9382-AF34C14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C486-6681-4978-BC24-26A5375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4DD98-36BD-4A0C-AC86-1DB45FDC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6B44-8A1D-4C3D-9557-854A778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37E7-2082-4278-9A32-9BD556A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0AE48-DB53-4C03-B274-CEB7A69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8EBD9-E971-4068-93DD-3871A731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9DDAD-8A37-4256-A247-941D9D03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0BEFA-09C2-4B3A-91B5-DF7E34A2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01D84-44DE-474F-A33D-1B79CD79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A643A-38F3-4F60-8A09-968418C6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E73AB-784D-4EB3-AFA1-DB5D5B85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75B5-EE9B-4179-A47B-1D42AF515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C8B6-C3BB-44DA-A276-51301EA6CC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529B-02ED-4834-907F-C8F0D60D5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FFB3-33C2-4950-B0E6-69AF91CF5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BBDF-01DF-49B9-8B32-38B3A5C70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3EC-0625-4A36-B588-F4A95E6A4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EE1E-8DE1-4A1D-9B92-933F980E5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3E81-FE6A-44A4-9DC0-ECE06E8DF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9F0A-DF1A-4292-A469-D51EBD74E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57C5-1B87-4526-987E-E1DA08BFF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1C02-BCE8-4BD2-B7BD-FE5341B62F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C602-DD9F-481D-A533-CA3C73263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DB5C-BE14-4EAE-BB7B-C3BDD2077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61F-00B6-434B-BA79-8A7B4EAEB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343F-389F-4B5A-9E7F-5858FFC40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896472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d16349"/>
                </a:solidFill>
                <a:latin typeface="Georgia"/>
              </a:rPr>
              <a:t>M</a:t>
            </a:r>
            <a:r>
              <a:rPr b="0" lang="sr-CS" sz="4200" spc="-1" strike="noStrike">
                <a:solidFill>
                  <a:srgbClr val="d16349"/>
                </a:solidFill>
                <a:latin typeface="Georgia"/>
              </a:rPr>
              <a:t>ЕЂУНАРОДНА</a:t>
            </a:r>
            <a:r>
              <a:rPr b="0" lang="sr-Latn-CS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sr-CS" sz="4200" spc="-1" strike="noStrike">
                <a:solidFill>
                  <a:srgbClr val="d16349"/>
                </a:solidFill>
                <a:latin typeface="Georgia"/>
              </a:rPr>
              <a:t>ЗДРАВСТВЕНА САРАДЊА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4211640" y="3789360"/>
            <a:ext cx="4537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26920" y="692280"/>
            <a:ext cx="7490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при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948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вој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З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Светски дан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ептемб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948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З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анично почела са рад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26920" y="476280"/>
            <a:ext cx="7490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a1ad"/>
                </a:solidFill>
                <a:latin typeface="Georgia"/>
              </a:rPr>
              <a:t>        </a:t>
            </a:r>
            <a:r>
              <a:rPr b="1" lang="sr-RS" sz="2800" spc="-1" strike="noStrike">
                <a:solidFill>
                  <a:srgbClr val="88a1ad"/>
                </a:solidFill>
                <a:latin typeface="Georgia"/>
              </a:rPr>
              <a:t>    </a:t>
            </a: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   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ко двеста чланица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вом  дефинисан начин рада и координација међународне сарадње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е, стање комплетног физичког, психичког и социјалног благостања, а не само одсуство болести и онеспособљености" - по својој суштини детерминише и основне активности, које су бројн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539280" y="691920"/>
            <a:ext cx="7696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            </a:t>
            </a:r>
            <a:r>
              <a:rPr b="0" lang="sr-Latn-CS" sz="2800" spc="-1" strike="noStrike">
                <a:solidFill>
                  <a:srgbClr val="88a1ad"/>
                </a:solidFill>
                <a:latin typeface="Calibri"/>
                <a:ea typeface="Calibri"/>
              </a:rPr>
              <a:t>Организациона структура СЗ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упштина (највиши орган, састаје се једном годишње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ршни одбор (од 30 чланова) који руководи радом организације између две скупштине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ручну службу организације - секретаријат, на чијем челу се налази генерални директор (као стручни и административни руководилац)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..Седиште WHO, Женева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68000" y="-100440"/>
            <a:ext cx="867564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46d7a"/>
                </a:solidFill>
                <a:latin typeface="Georgia"/>
              </a:rPr>
              <a:t>Децентрализован рад на регионалном принципу</a:t>
            </a:r>
            <a:r>
              <a:rPr b="0" lang="sr-Latn-CS" sz="2800" spc="-1" strike="noStrike">
                <a:solidFill>
                  <a:srgbClr val="546d7a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рички регио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ара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имбабв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р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шингто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уж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о азиј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Њу Делх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д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роп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пенхаге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н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теранск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ксандр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ип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ад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цифичк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липи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ктивности СЗО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сање глобалне здравствене попитик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државна сарадња, размена искуства, информ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же у развијању националних здравствених служб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јање информационих систе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Борба против заразних и незаразних болести, заштита животне средине, унапређење услова рада, становања, начина исхране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Функције СЗО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лаже међународне конвенције и споразуме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више и усмерава научноистраживачки рад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ваја међународне стандарде у области хране, биолошких и фармацеутских произво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же у развоју јавног информисања становништва о здрављу и мерама  здравствене заштит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Активност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и у активностима у зависности од економске развијености земљ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развијене земље - заразне болести, неухрањеност..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соко развијене земље- масовне хроничне незаразне болести, здравствени ризици које носи развој савремене технологиј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Неки од програма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 начин живота", "Здрави градови", "Здрава села", "Здрава острва", "Здрава школа", "Здрава радна места", "Здраве болнице", "Заједница без дуванског дима", "Очишћен ваздух за дисање", "Безбедна вода за пиће", "Baby friendly" - програм у сарадњи са УНИЦЕФ-ом, сарадња Светске здравствене организације у интернационалном програму на "Хемијској безбедности"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39640" y="1125360"/>
            <a:ext cx="7570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 би се активности земаља у области здравља и међународне здравствене сарадње координирале, интезивирале и успешно спроводиле, током 20. века оснивају се бројне међународне организације које се директно или индиректно баве здрављ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b9899"/>
                </a:solidFill>
                <a:latin typeface="Georgia"/>
              </a:rPr>
              <a:t>Достигнућа СЗО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324000" y="836640"/>
          <a:ext cx="8569080" cy="6021360"/>
        </p:xfrm>
        <a:graphic>
          <a:graphicData uri="http://schemas.openxmlformats.org/drawingml/2006/table">
            <a:tbl>
              <a:tblPr/>
              <a:tblGrid>
                <a:gridCol w="1720800"/>
                <a:gridCol w="6848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ирени програм имунизације за заштиту деце од полиомијелитиса, малих богиња, дифтерије, великог кашља, тетануса и тб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олуциј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″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до 2000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ација о примарној здравственој зашти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lma-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лашена ерадикација великих богиња, чији је последњи случај регистрован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.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Етиопиј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на стратегиј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″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до 2000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 развоја вакц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ља о унапређењу здрав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ни програм за АИД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у 21. в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b9899"/>
                </a:solidFill>
                <a:latin typeface="Georgia"/>
              </a:rPr>
              <a:t>Друге организације које се баве међународном здравственом сарадњом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324000" y="1052640"/>
          <a:ext cx="8640720" cy="5486400"/>
        </p:xfrm>
        <a:graphic>
          <a:graphicData uri="http://schemas.openxmlformats.org/drawingml/2006/table">
            <a:tbl>
              <a:tblPr/>
              <a:tblGrid>
                <a:gridCol w="4336920"/>
                <a:gridCol w="2154240"/>
                <a:gridCol w="214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 осни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ш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C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ђународни фонд Уједињених нација за помоћ де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Њујор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и се заштитом здравља радника и предлаже мере за остваривање њихове здравствене и социјалне сигурнос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national Labour Organiza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и се проблемима исхране и болестима које се преносе хр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S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јед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ја за просвету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спитање и школовање здравствених радник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H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 комесаријат Уједињених нација за избегл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320" y="620640"/>
            <a:ext cx="85345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Уједињене нације, УН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б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су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обал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ружењ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рађуј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међународн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глобал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збеднос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економск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социјал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нак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34520" cy="5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Уједињене нациј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Generalna skupština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avet bezbednosti UN (5+10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Ekonomski i socijalni save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ateljski save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ekretarija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Međunarodni sud prav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Tela agencija (UNWTO, UNICEF, UNCHR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Calibri"/>
                <a:ea typeface="Calibri"/>
              </a:rPr>
              <a:t>Актив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уж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оружањ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ров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сиј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ск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Хуманитар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оћ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оразум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64728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Организациј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уједињених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нациј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з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образовање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науку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и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културу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, UNESCO</a:t>
            </a:r>
            <a:br>
              <a:rPr sz="36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01320" y="2060640"/>
            <a:ext cx="850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 изградњи мира, смањењу сиромаштва,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висању одрживог развоја и интеркултуралног дијалога кроз образовање, науку, културу, комуникацију и информисањ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жава листу места светске прородне и културне баштин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1898a"/>
                </a:solidFill>
                <a:latin typeface="Calibri"/>
                <a:ea typeface="Calibri"/>
              </a:rPr>
              <a:t>Међународни фонд Уједињених нација за помоћ деци</a:t>
            </a:r>
            <a:r>
              <a:rPr b="0" lang="sr-Latn-RS" sz="3200" spc="-1" strike="noStrike">
                <a:solidFill>
                  <a:srgbClr val="61898a"/>
                </a:solidFill>
                <a:latin typeface="Calibri"/>
                <a:ea typeface="Calibri"/>
              </a:rPr>
              <a:t>,UNICEF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01320" y="15937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ц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младин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ри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валитет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њихов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тн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дар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ос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бровољ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лози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аци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рм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ђа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Calibri"/>
                <a:ea typeface="Calibri"/>
              </a:rPr>
              <a:t>Организација за храну и пољопривреду,  FAO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генција организације уједињених нација за исхрану и пољопривреду основана 1945.год како би побољшла производњу пољопривредних добара и квалитет исхране на глобалном ниво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Међународна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организација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рада</a:t>
            </a:r>
            <a:r>
              <a:rPr b="1" lang="sr-Latn-CS" sz="3600" spc="-1" strike="noStrike">
                <a:solidFill>
                  <a:srgbClr val="61898a"/>
                </a:solidFill>
                <a:latin typeface="Times New Roman"/>
              </a:rPr>
              <a:t>, 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IL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цијализована агенц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ја промовише социјалну правду и међународно призн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људска и радничка пра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ше међународне стандард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да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ободу удруживања, право 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овање, колективно преговарањ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кидање принудног рада једнак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ужа техничку помоћ: стручно образовање и стручна рехабилитација; политика запошљавања; администрација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игурност и заштита на рад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Georgia"/>
              </a:rPr>
              <a:t>Црвени крст, Red cros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24000" y="1483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539640" y="1413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86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Женеви 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датком да у ратн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ма помаже здравствен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ужб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нивач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Henry Dyn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угословенски Црвени кр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н 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875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Цети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Србиј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876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Српско друштво Црвеног крста, иницијатива др Владана Ђорђевића.    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Дефинисање основних појмо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01320" y="1341360"/>
            <a:ext cx="8504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ја-друштве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и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 свес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руживање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к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ординира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тивности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тварили тач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еђен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иљев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е организације - трајни облици институционализованог деловања основани вишестраним уговорима три или више држава, с посебним статусом или сталним органима, у оквиру којих се одвијају процеси мултилатералног преговарања и заједничког одлучивања чланица у одговарајућим областима међународне сарадњ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46b86"/>
                </a:solidFill>
                <a:latin typeface="Georgia"/>
              </a:rPr>
              <a:t>Делатност Црвеног крст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24000" y="112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ff0000"/>
                </a:solidFill>
                <a:latin typeface="Calibri"/>
                <a:ea typeface="Calibri"/>
              </a:rPr>
              <a:t>ХУМАНИТАРНА ПОМОЋ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рвени крст Србије као невладин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уманитарна организација ј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редни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дистрибуцији помоћи од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натора до крајњи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ника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СОЦИЈАЛНА ДЕЛАТНОСТ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игу о дец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ужање помоћи домаћем социјално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угроженом становништв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тале врсте помоћ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  <a:ea typeface="Calibri"/>
              </a:rPr>
              <a:t>ЗДРАВСТВЕНА ДЕЛАТН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вентивом,саветодавним радом и едукациј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5" name="Picture 3" descr="http://www.izjzkg.rs/images/stories/promoter33.JPG"/>
          <p:cNvPicPr/>
          <p:nvPr/>
        </p:nvPicPr>
        <p:blipFill>
          <a:blip r:embed="rId1"/>
          <a:stretch/>
        </p:blipFill>
        <p:spPr>
          <a:xfrm>
            <a:off x="4788000" y="1341360"/>
            <a:ext cx="410508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http://zzzzsns.co.rs/wp-content/uploads/2013/12/kalendar-zdravlja3.jpg"/>
          <p:cNvPicPr/>
          <p:nvPr/>
        </p:nvPicPr>
        <p:blipFill>
          <a:blip r:embed="rId2"/>
          <a:stretch/>
        </p:blipFill>
        <p:spPr>
          <a:xfrm>
            <a:off x="971640" y="333360"/>
            <a:ext cx="734544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539640" y="1125000"/>
            <a:ext cx="757080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радња подразумева једну или више 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превенцији, дијагнози и третману болести које траже комбинована разматрања и акције више од једне земљ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539640" y="259920"/>
            <a:ext cx="75708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3200" spc="-1" strike="noStrike">
                <a:solidFill>
                  <a:srgbClr val="88a1ad"/>
                </a:solidFill>
                <a:latin typeface="Calibri"/>
                <a:ea typeface="Calibri"/>
              </a:rPr>
              <a:t>Функције међународних организациј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 и контрола болести које представљају регионалне или глобалне претње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и дијалог, промоција истраживања и технолошког развоја у вези са здравственим проблемима који имају глаобални значај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стандарда и норми за међународну сертификацију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а међународних избеглица и расељеног становниш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ступање екстремно осетљивих популација које немају властите ресурс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0" y="-458640"/>
            <a:ext cx="9144000" cy="70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sr-CS" sz="3200" spc="-1" strike="noStrike">
                <a:solidFill>
                  <a:srgbClr val="88a1ad"/>
                </a:solidFill>
                <a:latin typeface="Calibri"/>
                <a:ea typeface="Calibri"/>
              </a:rPr>
              <a:t>Акције у оквиру међународне здравствене сарадње</a:t>
            </a:r>
            <a:r>
              <a:rPr b="0" lang="sr-Latn-CS" sz="3200" spc="-1" strike="noStrike">
                <a:solidFill>
                  <a:srgbClr val="88a1ad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а eпидемија и заразних болести које погађају више од једне земље, укључујући и размену информација о инциденцији епидемијских болести и обезбеђивање униформисаности у карантинским регулативима и медицинским документи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а размена медицинских и здравствених информација и искустава укључујући научне базе података, усавршавања, студијска путовања, публикације и обезбеђење литератур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стандардизација виталне статистике, биолошких препарата, опасних дрога и с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оћ земљама у разво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вети владама и министарствима здравља у вези са здравственим питањима од међународног значаја као што су маларија, АИДС, хеморагична грозница и др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ски аспекти међународне контроле злоупотреба дрога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88a1ad"/>
                </a:solidFill>
                <a:latin typeface="Calibri"/>
                <a:ea typeface="Calibri"/>
              </a:rPr>
              <a:t>Историјат међународне здравствене сарадњ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1838. године, у Цариграду,"Међународни здравствени савет" - са задатком да усклади пограничну заштиту од куге и колере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Прва Међународна здравствена конференција, одржана је 1851. године у Паризу, - тема: "Сузбијање заразних болести". Прихваћена је међународна конвенција о карантину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1892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усвоје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М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санитар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конвенција о мерама за спречавање и сузбијање колер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1902.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Међународни санитарни бир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који прераста у Панамеричку санитарну организацију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1907. године у Паризу, основан је "Међународни уред за јавну хигијену", са Одељењем за регистровање заразних болести и брзо пружање информација о њиховој појави и ширењу. Уред се 1950. године укључио у Светску здравствену организацију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88a1ad"/>
                </a:solidFill>
                <a:latin typeface="Calibri"/>
                <a:ea typeface="Calibri"/>
              </a:rPr>
              <a:t>Историјат међународне здравствене сарадњ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88a1ad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1921. године значајан помак у развоју организоване бриге о здрављу – на глобалном нивоу основана "Здравствена организација лиге народа"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ед све земље света поставља се проблематика превентивне и социјалне медицин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Нове идеје: о улози лекара; о рационалном начину исхране људи; о сузбијању акутних и хроничних масовних обољења; о утицају социјално - економских фактора на здравље популације. Значајан је рад у борби против злоупотребе опојних дрога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  <a:ea typeface="Calibri"/>
              </a:rPr>
              <a:t>Светска здравствена организација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(СЗО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946 год, Њујорк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конференција о здрављу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договор о оснивању међународне специјализоване агенције Уједињених нација  са циљем унапређења здравља у све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579600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8028000" y="3789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47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2:43:18Z</dcterms:created>
  <dc:creator>Dejana</dc:creator>
  <dc:description/>
  <dc:language>en-US</dc:language>
  <cp:lastModifiedBy>Majda</cp:lastModifiedBy>
  <dcterms:modified xsi:type="dcterms:W3CDTF">2020-09-18T17:31:20Z</dcterms:modified>
  <cp:revision>203</cp:revision>
  <dc:subject/>
  <dc:title>PROMOCIJA ZDRAVLJA</dc:title>
</cp:coreProperties>
</file>