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0A7C0-36A1-4517-AF5C-D3A5483A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B8EE4-7D34-4084-B786-C8E4100F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0CC39-8CE2-4DA2-88A5-74AD26B3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C616E-A012-49BD-8A44-DAD3ADEA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6508CA-C251-4C18-B518-5CC9E802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60840-32FA-4DC3-A49F-2D069A95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1939F-57E9-42C5-86E3-04AE5E57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07333-20B7-4158-BEAB-C5D7C6C3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D8C0E-9EAD-418A-9B3D-5DEE1DA5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00254-7225-4769-8F9F-6FF24373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089F5-5895-491A-A8DB-E56CE558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A52C4-61B8-4E1D-AC5B-B5D5A293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D9543-991D-4064-987B-AEBA890D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33E17-7137-47D5-813B-B8D497C3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EACA8-930F-48C5-AEE6-7F7BEBA6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7B5FD-6F75-4270-8FAB-25C59B5F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544BD-8382-4318-8B5B-5C86D65D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5074B-B3CE-48FB-8491-4B4069E7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CAC40-8271-4FB9-8156-50E73560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A6F35-B690-4F6C-86F8-E2720F7B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7E61E-6FD6-45B4-8698-1D25E5C4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09BB0-664D-4963-9AF3-E08B92CD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AE309-A3B6-4F9D-9D75-3D931DC1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4DC7-8F71-4684-A759-18AA173F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1F0D9-04A5-4492-9185-A303D5DC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4032EC-989C-4CB7-BC48-8B109DE9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A1D67C-4759-49A3-84C5-AEBE0DC8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19C495-A5EE-4DA3-9DF1-8650E5E1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C27B6A6-A03B-43EA-AF58-43FA6058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7DC124-CEAE-4C04-BA9F-11A542B4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37564B-DE03-4590-9154-1B9C6A6F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6BB52E-E4C8-4BDB-8111-6460F359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385C9B-98FF-484B-AC97-4F5E0480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9C78F0-3A99-402B-A168-F8D957F0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7D94-E2AA-4BDE-8D88-92DAD5E3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4ED244-2378-44A0-B13E-62754568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78310F-C7FE-46CC-B5D0-DEB37C3D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70CCBE-C1AF-430C-88D8-D6D169AA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A70C20-A656-4344-8AA7-3F59A286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47F276-2985-4074-A171-B37359B0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E91BDD-3968-442A-81E4-3764769D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7F70FA-9BA7-4172-A653-16AD2F52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D892E3-B809-4A57-A2D0-EEC41838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23073-DC51-4131-BBE7-8433822E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75A68E-6C99-48FE-BEC0-CAEC1B7A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E99D-F04B-4439-865D-E9FF6B2D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976946-739C-4737-A648-C9C54ECE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03F1B-A67D-4DC1-AC86-CFC54F14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0B05A5-B759-4133-8190-4170ADFA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85FF1-7E9C-4051-8342-131F8452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947D5-E238-4088-95D4-696E8E3A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C1FCA-5846-4F8E-9E6F-0EE38560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A0163-8B3A-4794-A468-C718AECD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DDE48-3573-401B-B824-9C4F1A6A4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D3DED-F903-4000-8BFF-4ACCDA88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124A5-17C8-451E-960B-14B1AC6C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0E3F-3AF2-4F6A-8D66-803EA9C6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6A058-5E58-4190-88E0-5A0819D1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2EACA-915C-48E0-AD82-EBA7F59F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798310-6436-46E5-A3F8-9A28F522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2BEB2D-E001-4B3E-8597-712625F9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6B187-9CB3-4627-8FA0-40604F82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780BB-8465-41DA-BA79-953AF006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021860-2004-4345-859F-F521D2FD1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7E00C58-9DCD-4EA3-A989-AF44B5B1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990CC44-5187-46BE-90C9-E7B4F428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AE4185D-AEDD-49B6-9B1F-83D143CD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B372-7BBE-4044-A6C8-E0E81C81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6F41C6-EA7C-4893-830B-A0652AE6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7F72C8D-3C49-40AD-9DD7-53714415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910B0E-5DC4-402C-AAE4-00305CBC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596FC23-2A0E-4F4E-86CA-0EF4031C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722A59-A9B1-499D-85E2-7970B270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553A51-2D45-40E0-A3AF-E613A831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32432D-B657-460B-993A-11765C95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48B50A-5357-4F2C-888B-AD882924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7419909-363F-4D97-A2BF-F2B1B87C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73BC3B-37D6-47DB-B2C4-96D7A866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A946-C8C3-49F1-912E-D5E39AA7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5989C2-21E9-4B70-BB95-65559485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F6953C-03A4-4760-B1A9-6E3ABC30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E5420F-EEED-4A33-8F34-6DBBEBF0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1E2F99-6324-4C1F-AB3C-F28070AE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B76499-15D0-4E3C-B149-68D9C92B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B43205-66CF-4787-B966-BCE431CD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17075-765C-4BB3-B864-E36516F2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689174-2FFA-4F37-B80E-EFC3E503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4956C5-0C6A-4FC1-B031-E1C27883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D6854-6C0C-4A66-B3B1-385FAB8C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3E04-AA4C-4A0E-95A8-B9C13873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60B61-2FA2-49F5-A39A-38F16292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366E-DB17-42B7-9E82-85E03F39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B52F2-879E-44B0-B7D5-08FB5F2F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F151-318D-4A1A-B824-A198A486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5026-6043-4654-9CE1-B2F46E63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D36C-AA2D-464E-B71C-2BB99CB9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4FB9-CCB3-4A01-ADA8-75C27C51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1FE4-34EC-4DC7-8D78-341B541AA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84FE8-47A7-49AF-9193-7E72E9EA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43B62-E43D-4818-89A7-430BE554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5F5D0-8C07-4873-B23B-6E786D29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1E0E3-A865-4A03-8B40-BB95F7A9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DFA98-8019-453F-BDF1-F4F59E21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BBE2A-38F9-4D87-B33F-A9BCFBB6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D2790-E6FD-4586-8175-2783B81FA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77F9C-510B-4F5B-B082-8B1C7A9B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E6E27-A4CB-4646-8388-2DE123BB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B406C-8313-4F13-ACBA-7165A2A1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380F4-B603-4575-9A34-283DDF23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EE90E-5BE6-4066-B7D4-263E9864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54889-EC23-4E32-9FCC-2723FEC8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9E2F0-E6F3-4313-B7F3-0D4A2057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91934-05D9-4353-B9FE-D278E0A7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FBE1E-4DF7-4FF1-A6CA-17DE6A0A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B2A81-47E1-426A-9F74-287E88AA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FDBAF-975A-411C-9D0F-D0F57F33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5EB54-234B-4B71-BD04-D5EED3F5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B675A-C55E-40EF-9311-47EAFE15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F84C7-7EC7-46DB-A8D1-A9B7E497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BC58D-8590-41B3-9792-1727C623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4A884-C2ED-4B66-8B5F-28585C25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244C8-826B-4C76-9A00-A6B7B8EF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32455-49C7-414A-A7E1-3A8BC3A3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BBEBD-8A4D-4C70-8EB5-581A1F6D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BD0DD-F384-4D7E-9004-726344F7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D45FF-A416-4A52-BD49-929F4193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71D2A-9F12-4AE7-9FE0-CAA19AAF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BEF68-759E-4159-87F4-399A8F55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AB35C-3D07-4D2E-A04D-85F03EE1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F08B6-290D-4BC5-A368-8D54540A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EAB6C-2C9B-438D-BE82-DDCA5A9B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DF499-E779-4DE1-BA1E-1AF62F6F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B6114-B03F-42F2-8F79-CA9228B1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0E3F7-FA50-40D0-84A0-B9D3BAFF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486DD-1E1D-414D-A07B-EDE9C229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5220C-B207-4B10-B8D0-7E665BFD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956D6-7D11-432E-997A-34847248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F267C-BC4D-43BE-B35B-888ADD82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5214A-172D-4C86-AAF8-DE113F81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DC9B8-D9E6-4C54-A441-C411A893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D4861-9C2C-43DD-8F72-0F27665B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CF9FF-E0B7-4CCF-8761-0D5C11BF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E983C-BDE1-4986-94A2-DBFC0DEC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F9740-3496-4233-9516-A1FD1A41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01016-C561-4B7F-B059-DB9AAC49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32F27-28A4-4E6D-9922-0A23E71A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833A4-F307-47EB-9E25-245BA913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D0F21-48BA-45C0-A2DC-58B6F3C0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97066-4F75-40CE-B539-EACCC987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2E162-55E0-46ED-8273-16F0BF45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63636-55BC-4A1D-9981-65849AEF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4C401-AE81-4E68-9267-EED17C903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F009F-CF29-450D-84B9-B77BD92A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B00F9-39C6-49AD-B1CB-3AAF1C31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104E0-C5D5-4997-AA3E-F966173A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02A5B-9F2F-44C6-9901-F9061DA9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D95D4-8982-44B5-98EA-3F165507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54AF1-3460-41C8-830B-45C6119B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F266-0E1D-4EC2-B094-57466E1F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1233B-7E5E-4E84-A936-64C92BD9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58256-548D-4C6B-850C-E12EAF07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5278D-3EC1-4ADA-864D-13F0FFC3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EA704-1629-4B4A-AD3B-E27A13560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8712F-84CE-4C38-987F-1C6DAC30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2274B-7D45-42AE-9DE8-9A62DC0B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1FB7B-C838-4382-9A50-660A5C98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6D4FD-B8E1-4A7A-92E0-0A8A485D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4BD41-F7AC-48AA-9459-238C29E8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DCB2D-AF5A-46AD-ACBA-8FCCBBE3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6EA3-EEBE-471E-A719-BBCA1E3E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1664C-941A-47AE-A3C6-C264B94C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ADDE4-C443-487D-8265-CF3C8D2E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761A5-67CB-4FC5-A1B0-21D1BC04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59DE4-871F-460B-BD54-04A754D6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3C3E3-2C4D-4C10-8D52-64A760C8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BD1DA-FF6C-44A4-BB7B-D5F1A694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9DAAA-0686-40DA-8A31-1F4401FD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8DAB3-F6F3-4BD7-8FA7-618040C9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7273F-04DA-4847-8D69-915703BD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ABB46-A7CC-418F-95D9-6F8ECEAD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28F0-BA79-403B-9BBF-18C2A06FCC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0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2B6E-950C-4189-AD1B-E05AF441763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3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ECB7-CC88-4C4C-AB9E-450562B4EF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3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Num" idx="34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50B2-F43D-4BEC-9ED7-1011C056EE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dt" idx="35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ftr" idx="36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D8CD-8335-48AB-9B26-EDABEEA9CF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Num" idx="40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B060-7D6A-467D-9F3F-D62490697D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dt" idx="4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ftr" idx="4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2ADA-3C52-4E2D-9A03-3EB981E519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A61D-B9F8-402C-92AA-7C0CE1E824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AEBB-38DC-4D33-AD3C-F67E497927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E685-75E9-4E63-8E88-BAC3F5A024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D047-9972-4357-AD44-61BFD92803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dt" idx="1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2E02-CCB8-47FF-9A10-3C236FA564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9A55-C900-4145-A54F-0256E35BE9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4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C48C-EF48-49EC-96A8-F7001FF55B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7046-6E2A-4AA6-B271-ABE3C3534F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0" y="1413000"/>
            <a:ext cx="8964720" cy="37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d16349"/>
                </a:solidFill>
                <a:latin typeface="Georgia"/>
              </a:rPr>
              <a:t>M</a:t>
            </a:r>
            <a:r>
              <a:rPr b="0" lang="sr-CS" sz="4200" spc="-1" strike="noStrike">
                <a:solidFill>
                  <a:srgbClr val="d16349"/>
                </a:solidFill>
                <a:latin typeface="Georgia"/>
              </a:rPr>
              <a:t>ЕЂУНАРОДНА</a:t>
            </a:r>
            <a:r>
              <a:rPr b="0" lang="sr-Latn-CS" sz="4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lang="sr-CS" sz="4200" spc="-1" strike="noStrike">
                <a:solidFill>
                  <a:srgbClr val="d16349"/>
                </a:solidFill>
                <a:latin typeface="Georgia"/>
              </a:rPr>
              <a:t>ЗДРАВСТВЕНА САРАДЊА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Rectangle 6"/>
          <p:cNvSpPr/>
          <p:nvPr/>
        </p:nvSpPr>
        <p:spPr>
          <a:xfrm>
            <a:off x="4211640" y="3789360"/>
            <a:ext cx="45370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826920" y="692280"/>
            <a:ext cx="7490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7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април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1948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воје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тав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З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 Светски дан здрављ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1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септембр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1948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З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ванично почела са радо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26920" y="476280"/>
            <a:ext cx="7490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8a1ad"/>
                </a:solidFill>
                <a:latin typeface="Georgia"/>
              </a:rPr>
              <a:t>        </a:t>
            </a:r>
            <a:r>
              <a:rPr b="1" lang="sr-RS" sz="2800" spc="-1" strike="noStrike">
                <a:solidFill>
                  <a:srgbClr val="88a1ad"/>
                </a:solidFill>
                <a:latin typeface="Georgia"/>
              </a:rPr>
              <a:t>    </a:t>
            </a:r>
            <a:r>
              <a:rPr b="0" lang="sr-RS" sz="2800" spc="-1" strike="noStrike">
                <a:solidFill>
                  <a:srgbClr val="88a1ad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88a1ad"/>
                </a:solidFill>
                <a:latin typeface="Calibri"/>
                <a:ea typeface="Calibri"/>
              </a:rPr>
              <a:t>         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Calibri"/>
              </a:rPr>
              <a:t>...П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ко двеста чланица.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6870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тавом  дефинисан начин рада и координација међународне сарадње у области здрављ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ље, стање комплетног физичког, психичког и социјалног благостања, а не само одсуство болести и онеспособљености" - по својој суштини детерминише и основне активности, које су бројн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539280" y="691920"/>
            <a:ext cx="7696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88a1ad"/>
                </a:solidFill>
                <a:latin typeface="Calibri"/>
                <a:ea typeface="Calibri"/>
              </a:rPr>
              <a:t>             </a:t>
            </a:r>
            <a:r>
              <a:rPr b="0" lang="sr-Latn-CS" sz="2800" spc="-1" strike="noStrike">
                <a:solidFill>
                  <a:srgbClr val="88a1ad"/>
                </a:solidFill>
                <a:latin typeface="Calibri"/>
                <a:ea typeface="Calibri"/>
              </a:rPr>
              <a:t>Организациона структура СЗО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купштина (највиши орган, састаје се једном годишње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вршни одбор (од 30 чланова) који руководи радом организације између две скупштине 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8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тручну службу организације - секретаријат, на чијем челу се налази генерални директор (као стручни и административни руководилац).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..Седиште WHO, Женева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468000" y="-100440"/>
            <a:ext cx="8675640" cy="66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546d7a"/>
                </a:solidFill>
                <a:latin typeface="Georgia"/>
              </a:rPr>
              <a:t>Децентрализован рад на регионалном принципу</a:t>
            </a:r>
            <a:r>
              <a:rPr b="0" lang="sr-Latn-CS" sz="2800" spc="-1" strike="noStrike">
                <a:solidFill>
                  <a:srgbClr val="546d7a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24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фрички регио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нцелар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Хара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имбабв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рич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нцелар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ашингтон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Јуж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сточно азијс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нцелар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Њу Делхиј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нд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вропск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нцелар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пенхаген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анск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Источ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дитерански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нцелар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A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лександриј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гипа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падн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ацифички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нцелари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M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анил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липи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0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ктивности СЗО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01320" y="1413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ормулисање глобалне здравствене попитик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државна сарадња, размена искуства, информ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маже у развијању националних здравствених служб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звјање информационих систем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Борба против заразних и незаразних болести, заштита животне средине, унапређење услова рада, становања, начина исхране..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Функције СЗО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301320" y="1413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едлаже међународне конвенције и споразуме у области здрављ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мовише и усмерава научноистраживачки рад у области здрављ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ваја међународне стандарде у области хране, биолошких и фармацеутских производ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маже у развоју јавног информисања становништва о здрављу и мерама  здравствене заштит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Активност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301320" y="1413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оритети у активностима у зависности од економске развијености земљ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развијене земље - заразне болести, неухрањеност..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исоко развијене земље- масовне хроничне незаразне болести, здравствени ризици које носи развој савремене технологиј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Неки од програма…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01320" y="141300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"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драв начин живота", "Здрави градови", "Здрава села", "Здрава острва", "Здрава школа", "Здрава радна места", "Здраве болнице", "Заједница без дуванског дима", "Очишћен ваздух за дисање", "Безбедна вода за пиће", "Baby friendly" - програм у сарадњи са УНИЦЕФ-ом, сарадња Светске здравствене организације у интернационалном програму на "Хемијској безбедности"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539640" y="1125360"/>
            <a:ext cx="75708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а би се активности земаља у области здравља и међународне здравствене сарадње координирале, интезивирале и успешно спроводиле, током 20. века оснивају се бројне међународне организације које се директно или индиректно баве здравље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7b9899"/>
                </a:solidFill>
                <a:latin typeface="Georgia"/>
              </a:rPr>
              <a:t>Достигнућа СЗО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324000" y="836640"/>
          <a:ext cx="8569080" cy="6021360"/>
        </p:xfrm>
        <a:graphic>
          <a:graphicData uri="http://schemas.openxmlformats.org/drawingml/2006/table">
            <a:tbl>
              <a:tblPr/>
              <a:tblGrid>
                <a:gridCol w="1720800"/>
                <a:gridCol w="6848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игну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ирени програм имунизације за заштиту деце од полиомијелитиса, малих богиња, дифтерије, великог кашља, тетануса и тб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7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олуција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″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ље за све до 2000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ларација о примарној здравственој заштити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Alma-Al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лашена ерадикација великих богиња, чији је последњи случај регистрован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7.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Етиопији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на стратегија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″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ље за све до 2000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 развоја вакц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ља о унапређењу здрављ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обални програм за АИД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ље за све у 21. ве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b9899"/>
                </a:solidFill>
                <a:latin typeface="Georgia"/>
              </a:rPr>
              <a:t>Друге организације које се баве међународном здравственом сарадњом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324000" y="1052640"/>
          <a:ext cx="8640720" cy="5486400"/>
        </p:xfrm>
        <a:graphic>
          <a:graphicData uri="http://schemas.openxmlformats.org/drawingml/2006/table">
            <a:tbl>
              <a:tblPr/>
              <a:tblGrid>
                <a:gridCol w="4336920"/>
                <a:gridCol w="2154240"/>
                <a:gridCol w="2149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ина оснив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диш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C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ђународни фонд Уједињених нација за помоћ де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Њујор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ви се заштитом здравља радника и предлаже мере за остваривање њихове здравствене и социјалне сигурности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ternational Labour Organization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ви се проблемима исхране и болестима које се преносе хра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ES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јед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ја за просвету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аспитање и школовање здравствених радника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H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оки комесаријат Уједињених нација за избегли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320" y="620640"/>
            <a:ext cx="8534520" cy="54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Уједињене нације, УН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народн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рганизациј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б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писуј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глобалн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дружењ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лад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рађуј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љ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међународног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в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глобалн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безбедност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економског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звој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-социјалн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еднакост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534520" cy="54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Georgia"/>
              </a:rPr>
              <a:t>Уједињене нације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Generalna skupština U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Savet bezbednosti UN (5+10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Ekonomski i socijalni savet U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Starateljski savet U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Sekretarijat U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Međunarodni sud pravd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Tela agencija (UNWTO, UNICEF, UNCHR..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9899"/>
                </a:solidFill>
                <a:latin typeface="Calibri"/>
                <a:ea typeface="Calibri"/>
              </a:rPr>
              <a:t>Активност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нтрол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ружј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оружањ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ировн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исиј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Људск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Хуманитарн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моћ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звој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поразум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народн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аво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320" y="647280"/>
            <a:ext cx="85345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Организација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уједињених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нација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за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образовање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науку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и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културу</a:t>
            </a:r>
            <a:r>
              <a:rPr b="0" lang="pl-PL" sz="2800" spc="-1" strike="noStrike">
                <a:solidFill>
                  <a:srgbClr val="7b9899"/>
                </a:solidFill>
                <a:latin typeface="Georgia"/>
              </a:rPr>
              <a:t>, UNESCO</a:t>
            </a:r>
            <a:br>
              <a:rPr sz="3600"/>
            </a:b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01320" y="2060640"/>
            <a:ext cx="8504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принос изградњи мира, смањењу сиромаштва,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мовисању одрживог развоја и интеркултуралног дијалога кроз образовање, науку, културу, комуникацију и информисање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држава листу места светске прородне и културне баштин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61898a"/>
                </a:solidFill>
                <a:latin typeface="Calibri"/>
                <a:ea typeface="Calibri"/>
              </a:rPr>
              <a:t>Међународни фонд Уједињених нација за помоћ деци</a:t>
            </a:r>
            <a:r>
              <a:rPr b="0" lang="sr-Latn-RS" sz="3200" spc="-1" strike="noStrike">
                <a:solidFill>
                  <a:srgbClr val="61898a"/>
                </a:solidFill>
                <a:latin typeface="Calibri"/>
                <a:ea typeface="Calibri"/>
              </a:rPr>
              <a:t>,UNICEF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301320" y="15937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народн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онд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ец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младин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брин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валитет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њиховог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животног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тандард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нансир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целост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бровољним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илозим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влад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ондациј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ирм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грађан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1320" y="3333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9899"/>
                </a:solidFill>
                <a:latin typeface="Calibri"/>
                <a:ea typeface="Calibri"/>
              </a:rPr>
              <a:t>Организација за храну и пољопривреду,  FAO 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Агенција организације уједињених нација за исхрану и пољопривреду основана 1945.год како би побољшла производњу пољопривредних добара и квалитет исхране на глобалном ниво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1898a"/>
                </a:solidFill>
                <a:latin typeface="Times New Roman"/>
              </a:rPr>
              <a:t>Међународна</a:t>
            </a:r>
            <a:r>
              <a:rPr b="0" lang="sr-Latn-CS" sz="3600" spc="-1" strike="noStrike">
                <a:solidFill>
                  <a:srgbClr val="61898a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61898a"/>
                </a:solidFill>
                <a:latin typeface="Times New Roman"/>
              </a:rPr>
              <a:t>организација</a:t>
            </a:r>
            <a:r>
              <a:rPr b="0" lang="sr-Latn-CS" sz="3600" spc="-1" strike="noStrike">
                <a:solidFill>
                  <a:srgbClr val="61898a"/>
                </a:solidFill>
                <a:latin typeface="Times New Roman"/>
              </a:rPr>
              <a:t> </a:t>
            </a:r>
            <a:r>
              <a:rPr b="0" lang="sr-RS" sz="3600" spc="-1" strike="noStrike">
                <a:solidFill>
                  <a:srgbClr val="61898a"/>
                </a:solidFill>
                <a:latin typeface="Times New Roman"/>
              </a:rPr>
              <a:t>рада</a:t>
            </a:r>
            <a:r>
              <a:rPr b="1" lang="sr-Latn-CS" sz="3600" spc="-1" strike="noStrike">
                <a:solidFill>
                  <a:srgbClr val="61898a"/>
                </a:solidFill>
                <a:latin typeface="Times New Roman"/>
              </a:rPr>
              <a:t>, </a:t>
            </a:r>
            <a:r>
              <a:rPr b="0" lang="sr-Latn-CS" sz="3600" spc="-1" strike="noStrike">
                <a:solidFill>
                  <a:srgbClr val="61898a"/>
                </a:solidFill>
                <a:latin typeface="Times New Roman"/>
              </a:rPr>
              <a:t>ILO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ецијализована агенциј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U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која промовише социјалну правду и међународно призна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људска и радничка прав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формулише међународне стандарде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да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лободу удруживања, право 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рганизовање, колективно преговарањ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кидање принудног рада једнак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лов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ужа техничку помоћ: стручно образовање и стручна рехабилитација; политика запошљавања; администрација ра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сигурност и заштита на раду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583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b86"/>
                </a:solidFill>
                <a:latin typeface="Georgia"/>
              </a:rPr>
              <a:t>Црвени крст, Red cross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324000" y="148392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2" name="Rectangle 4"/>
          <p:cNvSpPr/>
          <p:nvPr/>
        </p:nvSpPr>
        <p:spPr>
          <a:xfrm>
            <a:off x="539640" y="141300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нова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1863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го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 Женеви с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датком да у ратним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словима помаже здравствен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лужб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нивач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Henry Dyn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Југословенски Црвени крс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нован 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1875.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 Цетињ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У Србији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1876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, Српско друштво Црвеног крста, иницијатива др Владана Ђорђевића.     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Дефинисање основних појмов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301320" y="1341360"/>
            <a:ext cx="8504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рганизација-друштвен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целин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ј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ј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стала свесним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удруживањем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људ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ак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б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ординираним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активностима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тварили тачно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одређен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циљеви</a:t>
            </a:r>
            <a:r>
              <a:rPr b="0" lang="vi-VN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народне организације - трајни облици институционализованог деловања основани вишестраним уговорима три или више држава, с посебним статусом или сталним органима, у оквиру којих се одвијају процеси мултилатералног преговарања и заједничког одлучивања чланица у одговарајућим областима међународне сарадњ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5832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646b86"/>
                </a:solidFill>
                <a:latin typeface="Georgia"/>
              </a:rPr>
              <a:t>Делатност Црвеног крста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324000" y="1125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ff0000"/>
                </a:solidFill>
                <a:latin typeface="Calibri"/>
                <a:ea typeface="Calibri"/>
              </a:rPr>
              <a:t>ХУМАНИТАРНА ПОМОЋ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Црвени крст Србије као невладина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хуманитарна организација ј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посредник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у дистрибуцији помоћи од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донатора до крајњих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рисника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СОЦИЈАЛНА ДЕЛАТНОСТ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бригу о дец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ужање помоћи домаћем социјално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угроженом становништв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у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остале врсте помоћ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0000"/>
                </a:solidFill>
                <a:latin typeface="Calibri"/>
                <a:ea typeface="Calibri"/>
              </a:rPr>
              <a:t>ЗДРАВСТВЕНА ДЕЛАТНОСТ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26440" indent="-22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вентивом,саветодавним радом и едукацијо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15" name="Picture 3" descr="http://www.izjzkg.rs/images/stories/promoter33.JPG"/>
          <p:cNvPicPr/>
          <p:nvPr/>
        </p:nvPicPr>
        <p:blipFill>
          <a:blip r:embed="rId1"/>
          <a:stretch/>
        </p:blipFill>
        <p:spPr>
          <a:xfrm>
            <a:off x="4788000" y="1341360"/>
            <a:ext cx="4105080" cy="43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" descr="http://zzzzsns.co.rs/wp-content/uploads/2013/12/kalendar-zdravlja3.jpg"/>
          <p:cNvPicPr/>
          <p:nvPr/>
        </p:nvPicPr>
        <p:blipFill>
          <a:blip r:embed="rId2"/>
          <a:stretch/>
        </p:blipFill>
        <p:spPr>
          <a:xfrm>
            <a:off x="971640" y="333360"/>
            <a:ext cx="7345440" cy="64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539640" y="1125000"/>
            <a:ext cx="7570800" cy="66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еђународна здравстве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радња подразумева једну или више активност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 превенцији, дијагнози и третману болести које траже комбинована разматрања и акције више од једне земљ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539640" y="259920"/>
            <a:ext cx="7570800" cy="70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US" sz="3200" spc="-1" strike="noStrike">
                <a:solidFill>
                  <a:srgbClr val="88a1ad"/>
                </a:solidFill>
                <a:latin typeface="Calibri"/>
                <a:ea typeface="Calibri"/>
              </a:rPr>
              <a:t>Функције међународних организациј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Надзор и контрола болести које представљају регионалне или глобалне претње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народни дијалог, промоција истраживања и технолошког развоја у вези са здравственим проблемима који имају глаобални значај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звој стандарда и норми за међународну сертификацију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штита међународних избеглица и расељеног становништв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ступање екстремно осетљивих популација које немају властите ресурсе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0" y="-458640"/>
            <a:ext cx="9144000" cy="70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sr-CS" sz="3200" spc="-1" strike="noStrike">
                <a:solidFill>
                  <a:srgbClr val="88a1ad"/>
                </a:solidFill>
                <a:latin typeface="Calibri"/>
                <a:ea typeface="Calibri"/>
              </a:rPr>
              <a:t>Акције у оквиру међународне здравствене сарадње</a:t>
            </a:r>
            <a:r>
              <a:rPr b="0" lang="sr-Latn-CS" sz="3200" spc="-1" strike="noStrike">
                <a:solidFill>
                  <a:srgbClr val="88a1ad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нтрола eпидемија и заразних болести које погађају више од једне земље, укључујући и размену информација о инциденцији епидемијских болести и обезбеђивање униформисаности у карантинским регулативима и медицинским документим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ђународна размена медицинских и здравствених информација и искустава укључујући научне базе података, усавршавања, студијска путовања, публикације и обезбеђење литературо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еђународна стандардизација виталне статистике, биолошких препарата, опасних дрога и с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моћ земљама у развоју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Савети владама и министарствима здравља у вези са здравственим питањима од међународног значаја као што су маларија, АИДС, хеморагична грозница и др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дицински аспекти међународне контроле злоупотреба дрога.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0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88a1ad"/>
                </a:solidFill>
                <a:latin typeface="Calibri"/>
                <a:ea typeface="Calibri"/>
              </a:rPr>
              <a:t>Историјат међународне здравствене сарадњ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1838. године, у Цариграду,"Међународни здравствени савет" - са задатком да усклади пограничну заштиту од куге и колере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Прва Међународна здравствена конференција, одржана је 1851. године у Паризу, - тема: "Сузбијање заразних болести". Прихваћена је међународна конвенција о карантину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alibri"/>
                <a:ea typeface="Calibri"/>
              </a:rPr>
              <a:t>1892.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  <a:ea typeface="Calibri"/>
              </a:rPr>
              <a:t>усвојена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  <a:ea typeface="Calibri"/>
              </a:rPr>
              <a:t> М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  <a:ea typeface="Calibri"/>
              </a:rPr>
              <a:t>еђународна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  <a:ea typeface="Calibri"/>
              </a:rPr>
              <a:t>санитарна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  <a:ea typeface="Calibri"/>
              </a:rPr>
              <a:t>конвенција о мерама за спречавање и сузбијање колере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alibri"/>
                <a:ea typeface="Calibri"/>
              </a:rPr>
              <a:t>1902.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  <a:ea typeface="Calibri"/>
              </a:rPr>
              <a:t> Међународни санитарни бир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  <a:ea typeface="Calibri"/>
              </a:rPr>
              <a:t>који прераста у Панамеричку санитарну организацију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Calibri"/>
              </a:rPr>
              <a:t>1907. године у Паризу, основан је "Међународни уред за јавну хигијену", са Одељењем за регистровање заразних болести и брзо пружање информација о њиховој појави и ширењу. Уред се 1950. године укључио у Светску здравствену организацију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88a1ad"/>
                </a:solidFill>
                <a:latin typeface="Calibri"/>
                <a:ea typeface="Calibri"/>
              </a:rPr>
              <a:t>Историјат међународне здравствене сарадње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88a1ad"/>
                </a:solidFill>
                <a:latin typeface="Georg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1921. године значајан помак у развоју организоване бриге о здрављу – на глобалном нивоу основана "Здравствена организација лиге народа"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Пред све земље света поставља се проблематика превентивне и социјалне медицине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Нове идеје: о улози лекара; о рационалном начину исхране људи; о сузбијању акутних и хроничних масовних обољења; о утицају социјално - економских фактора на здравље популације. Значајан је рад у борби против злоупотребе опојних дрога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Calibri"/>
                <a:ea typeface="Calibri"/>
              </a:rPr>
              <a:t>Светска здравствена организација 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(СЗО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946 год, Њујорк-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еђународна конференција о здрављу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Calibri"/>
              </a:rPr>
              <a:t>-договор о оснивању међународне специјализоване агенције Уједињених нација  са циљем унапређења здравља у свет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4" name="Line 12"/>
          <p:cNvSpPr/>
          <p:nvPr/>
        </p:nvSpPr>
        <p:spPr>
          <a:xfrm>
            <a:off x="5796000" y="256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Line 13"/>
          <p:cNvSpPr/>
          <p:nvPr/>
        </p:nvSpPr>
        <p:spPr>
          <a:xfrm>
            <a:off x="8028000" y="37893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47000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02:43:18Z</dcterms:created>
  <dc:creator>Dejana</dc:creator>
  <dc:description/>
  <dc:language>en-US</dc:language>
  <cp:lastModifiedBy>Majda</cp:lastModifiedBy>
  <dcterms:modified xsi:type="dcterms:W3CDTF">2020-09-18T17:31:20Z</dcterms:modified>
  <cp:revision>203</cp:revision>
  <dc:subject/>
  <dc:title>PROMOCIJA ZDRAVLJA</dc:title>
</cp:coreProperties>
</file>