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F363-8CC4-468F-88DF-E2264027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3405-AE9D-475C-A86A-35439E7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5FD28-9F73-496C-9B9D-9AACE7D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3CEC0-0B77-4D7E-90AB-B856AD08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FCF79-65E9-4F7D-B397-68BB085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92078-2901-4DCB-B4C0-9D0F60B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2DC43-4C09-4462-A5A3-A2856A0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EA087-5E28-41E2-A2DF-D6858A2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98BDB-1F03-4574-8BC2-7B4647C7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DF9E-6AB8-4463-AF8A-7339AF52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5D28-158B-4210-A654-0ADB42DC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D70FC-ACB9-4370-8BD8-0B8E6DD3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ECFB-A02B-4B8F-9B67-263E1A87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5CC59-02AD-4AD4-BDFA-D6C22E60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1D23B-54FD-4E75-9F89-32EED4D8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C3F42-552D-41B4-AE6E-7E18CC21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667EC-2C8D-4EE7-889F-F5C49C4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0174F-9D41-49F7-B726-B5172B3C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6A012-BEA4-4E34-961A-33D6388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00299-58B6-4833-B223-E9EF621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C9EB8-8C34-4A3D-8E76-2E3E042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1314A-08DE-43D6-BDC2-3E6E6070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B8ED2-BA80-4A19-82C4-66D0809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594B-EB2D-47E6-A70A-6486A518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12D2A-E918-480C-87C6-4D238D36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68568B-932A-4617-AF0C-DACE525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0725B5-8DD1-4E4E-8526-19E6621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689CBD-81F5-4558-A4CC-41BDAF53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4B008C-213C-44E2-942D-0D2A50C4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E721EA-7E33-4968-8F97-15B84538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3B9D4B-C5F7-4049-8A58-473BA05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F8DB0F-4188-4349-8F85-257F92C1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4BD5FB-7CA4-468B-AC5D-013EC0A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1E6C60-017B-4A9A-ACF7-FE76808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FBA0-9064-436A-B6D7-D1AC99EE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1A7C4D-FD49-4A8A-9ECE-EB31215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E19AC-F8CD-4F02-B0CA-DAA90808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4DDE94-023B-4921-8F94-1E952564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4E35D-9A6B-4393-BD1B-1E14AEF5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32705-666E-4640-AF9A-E6F46379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C567B-66B9-4820-AB81-06E9596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10A43-358E-4FF2-A04A-4292A1A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FCC1F-16D8-43F1-8F78-FC111FC2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87B33-1B45-4D0F-9AE5-22721DC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71FB3-D677-406E-A80D-489D86E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A2A-E105-4347-B301-7082E4D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2BC32-432A-4ADA-95A6-516A333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C6BE8-C0E0-44D8-ACD1-5B1AE54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E865B-87E7-47B3-A656-77327DB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68452-47D4-4637-AAE3-4CCDABEB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BA0A3-687A-4F6B-A39D-1FE3AA58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C8FFB-B2E5-418E-8249-25C7A8C9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D78BD-3F0D-49C4-BF67-1264EF9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4F3A5-DC45-41FA-A2B6-97813B0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A2D53-960A-4FE9-BEAF-7A2E1896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76DF5-72D5-4F50-8569-5721315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C98-6337-4A4F-9BFC-549B3E4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B2768-B2BA-45B6-9904-F2956C2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3A218-7ABF-4290-8D84-EFF68AC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F442A-4EC7-4EEB-B7B7-80379B8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00057-E75B-47D9-BF89-B6C2C36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13AFA-867F-419A-AD19-CA3ABF6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05C78-1CE6-4948-9FD6-E0783E1D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1A718-0508-49DD-8641-A7A1F759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4D21DA-9106-4015-B4CE-766D1385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CE09C9-E3CF-4533-A263-5621792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A0ED3D-34B3-417B-B4F3-EEBF1E0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E6D-C967-4E27-B58F-31E6398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ED2C24-12A4-4436-A584-B46052C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86C405-8ECE-470A-BAF0-E498A1F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E21FFD-35EB-45A2-BD8D-775B6B51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420771-D125-4D9C-A642-0C390D7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1D5221-AEDB-4D66-BAA4-726260B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4BFDC0-84E5-422C-A3F2-5B26ADE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B4151B-8AB6-45E9-85DF-6957D75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045F55-1D32-4C58-8F4E-EE1AF186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C432F4-ACDB-4D58-BF4A-1DFA6924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053D2-076C-44CD-9086-FB8232BF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6D6-CADB-4E35-9282-75EF8B6B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D7557-E3EB-4FAB-AE28-8CD1267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2AA10-967A-40DA-A015-B1F592A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6C1C9-2DCF-4413-B598-7E1A837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16775-085E-4E29-A986-8C59BB9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30D12-B8BD-4941-8689-92BA04D6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4E6A9-59A7-4C2D-AE88-1DFBE1C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F5870-4E29-4DDB-89F6-C81B2342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88B613-A3C7-4BC3-BCF5-736364A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E2AE0-4E1D-4C8D-A8A8-0E587BFF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ED5C1-9D9B-497B-ADC0-472EB389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D266-6266-4F4F-AAA0-7C4FEF95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D0021-3089-436D-BFA4-CB4D489D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909-7D5C-4F30-A826-58282E8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5DA6-ED6C-49C4-BAC8-CFE2622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FE9-A310-4969-B578-B432243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EC0F-5963-4E93-A4AF-5B050DC7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5F48-0AAF-4233-847C-BF8C2EE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FFD-D227-4E30-8A45-2E24DB7C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67E-2E1E-4B03-9310-34320C6C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4610-A06F-4A17-9B0D-911AFFAA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B01A-47AD-4991-90BC-4656D3B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C491-88CF-4F9A-969D-F0BC5DA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78D4-65A6-4976-883B-227531CC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069F-F98C-48F6-B681-0D9809BB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595D-E0B4-4120-B6B6-EDFE822B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81B7-B0C7-4486-AB46-0808880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8D8C-24BE-4D3B-BB6F-97DA4F37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78CE-270F-4E16-9215-4AB23E5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5E7A-9177-443D-AFA9-F8D649F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0B66-0924-43C5-BC7C-C7E68B1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A13E-0B35-4D57-A9A4-EE8CA4D5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385C-174A-4F6C-8C5E-B16068FC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328C6-DDFC-42BD-9107-52EA326B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6D00-B773-4ED1-88E4-0B3CBFD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35D6-24B7-4AD9-A87C-2A04B38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053D-0716-4806-810C-5DFD480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2C9F-5035-4F85-A0E8-22F3CC2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268B-7195-4148-94DA-015EB258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2C57-F3DD-4975-830F-B1A4091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4321-EDA4-4EC6-B2FC-3E96DCD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1834-32CB-483B-ABA5-1CA5B6A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0BD2-63A9-433D-9C46-AD9A2D5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6F2E-99CE-4EFD-8FA4-6DAB332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1CC0-DA0C-4E4F-A29A-C627B9A7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DA9B-5F01-45F4-AE11-131C819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23E90-4D81-429F-BE2C-75FD76E3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B00E-BDB6-43DA-A6EF-AB7A426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EE5D-8EBE-4200-B157-4B65E4A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FE6A-1B58-488E-9FF6-E249366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057C-6AC2-4B10-ABFB-EE5326A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73492-0D74-4DE7-B714-07E7C446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4619-9019-4A16-9EF9-90496264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E3AD-3407-4CB0-BB8F-536269F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FD75-0BBB-49AA-B0A2-D7F4AFE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7EDF-704E-4F64-B83B-A266F72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5488-AAC5-46BE-B1AD-D44A0976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BFCE-7491-4C23-95AC-ABD73D37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49A6-280A-4DC9-9E59-922111C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BB4C-7256-431E-8625-C0DCC9E1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AC44-04FD-4032-97F8-3BA1FF0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CEE0-7886-4A4C-A6E9-3B31644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84E4-C38F-49A8-956C-5488EBB1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61276-A672-4BEE-8E47-E395AA5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4D48-A843-4348-86C0-7BB0E96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73D9-0273-43C3-BA76-80628900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625F8-A2B4-4524-A864-FF7682D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5E53-9EC0-411A-AB66-D11902A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CD5D-974D-4706-9414-97BE03BE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C4A8-5E6F-48A9-988A-14A4E99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28E7-943F-4CF2-944B-185B6BCF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C6CF-D687-4C79-BDD0-3DCA4218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29E0-54FF-40A6-B292-576FFB06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CFB7-3309-4DB9-B3CE-734D040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AE3E-8CBA-4A56-A8D5-0045A79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1D74-BDB2-4F83-9943-2617511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D5F3-FC91-415E-965F-3E6F74C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63F5-A0CA-4832-9768-96657EB7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BD431-3B12-4A2A-AFB5-1266F498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E5F3-A2BD-424A-B5C9-14F40E1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5148-C017-4B07-AC50-8B9E6B6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82140-D7E1-4054-9FA1-22D0F67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D315-9D30-40C4-A48B-B332377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13A2-5B4C-415B-B499-E781ABA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D4F98-2A92-4C8A-9956-7BBD41BD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7287-4169-4108-B9C5-3756AE0D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9CE6E-B457-4E56-84CF-C816016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0992-8E1A-4732-92BD-8D02663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EB48-DD2D-413A-9E24-CBCC8361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6395-F4BD-455A-9582-AC5E03F6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CFB7-D9E0-4801-9F52-E6582132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BD80-C5F8-44C9-B779-D68FDB4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9F33-B90A-4972-909C-AE1C5C7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D0CA-245F-49ED-95D7-C0D0AB0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DB4A-620F-46C3-8ED8-21ABA03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57ED-7AA1-4804-A264-60B89C3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E4D38-1E9C-4AB9-9A22-BF47708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B163-AE75-4AB4-AF47-15201B46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8362C-28D6-4E16-AB91-C4B71905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6A7A4-7DAC-42EA-B7AB-F255504A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D589F-2E36-45AD-836F-2F5BFAA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3BCFC-D685-4556-A3F8-E6291512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E7D-BF79-400B-A4C7-D47F4A863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A42-925D-4897-AFAF-E0A8671D5E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A3F-AB6D-43DA-A751-9662723FE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194-FF69-4DA6-9340-9D6A13CE8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12D-37EF-475D-A5F7-B24869A74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6C0-3301-4E98-8B2E-2A4DB9E62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DAB-8BF1-47B7-83DB-04B8A2FD8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A327-7277-484D-B76F-2BEB9E98D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6426-B136-464E-A6FE-6A229DEC9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904-A9E9-46FA-A4F7-5F4BAED58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45A-0BF6-4281-B081-FEA7FDF81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CA4-C377-4335-B61C-9AE773FA6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E5E3-8003-4BB1-8E4B-9CAD10832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C08-BE84-4C75-9DA7-BDA89CD23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A1D-E697-4831-883A-3707D2DB3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896472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M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ЕЂУНАРОДНА</a:t>
            </a: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ЗДРАВСТВЕНА САРАДЊА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4211640" y="3789360"/>
            <a:ext cx="453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26920" y="692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при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Светски дан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ептемб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анично почела са рад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26920" y="476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a1ad"/>
                </a:solidFill>
                <a:latin typeface="Georgia"/>
              </a:rPr>
              <a:t>        </a:t>
            </a:r>
            <a:r>
              <a:rPr b="1" lang="sr-RS" sz="2800" spc="-1" strike="noStrike">
                <a:solidFill>
                  <a:srgbClr val="88a1ad"/>
                </a:solidFill>
                <a:latin typeface="Georgia"/>
              </a:rPr>
              <a:t>    </a:t>
            </a: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ко двеста чланица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ом  дефинисан начин рада и координација међународне сарадњ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е, стање комплетног физичког, психичког и социјалног благостања, а не само одсуство болести и онеспособљености" - по својој суштини детерминише и основне активности, које су бројн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539280" y="691920"/>
            <a:ext cx="7696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  </a:t>
            </a:r>
            <a:r>
              <a:rPr b="0" lang="sr-Latn-CS" sz="2800" spc="-1" strike="noStrike">
                <a:solidFill>
                  <a:srgbClr val="88a1ad"/>
                </a:solidFill>
                <a:latin typeface="Calibri"/>
                <a:ea typeface="Calibri"/>
              </a:rPr>
              <a:t>Организациона структура СЗ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упштина (највиши орган, састаје се једном годишње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ршни одбор (од 30 чланова) који руководи радом организације између две скупштине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ручну службу организације - секретаријат, на чијем челу се налази генерални директор (као стручни и административни руководилац)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..Седиште WHO, Женева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68000" y="-100440"/>
            <a:ext cx="867564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46d7a"/>
                </a:solidFill>
                <a:latin typeface="Georgia"/>
              </a:rPr>
              <a:t>Децентрализован рад на регионалном принципу</a:t>
            </a:r>
            <a:r>
              <a:rPr b="0" lang="sr-Latn-CS" sz="2800" spc="-1" strike="noStrike">
                <a:solidFill>
                  <a:srgbClr val="546d7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рички реги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ара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имбабв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ингто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ж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 азиј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Њу Делх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д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роп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пенхаге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н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теранс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ксандр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ип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ад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цифич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липи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ктивности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сање глобалне здравствене попитик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државна сарадња, размена искуства, информ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ијању националних здравствених служб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јање информационих систе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рба против заразних и незаразних болести, заштита животне средине, унапређење услова рада, становања, начина исхране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Функције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лаже међународне конвенције и споразум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ше и усмерава научноистраживачки рад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аја међународне стандарде у области хране, биолошких и фармацеутских произво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оју јавног информисања становништва о здрављу и мерама  здравствене зашти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Активнос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 у активностима у зависности од економске развијености земљ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развијене земље - заразне болести, неухрањеност..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соко развијене земље- масовне хроничне незаразне болести, здравствени ризици које носи развој савремене технологиј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Неки од програма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 начин живота", "Здрави градови", "Здрава села", "Здрава острва", "Здрава школа", "Здрава радна места", "Здраве болнице", "Заједница без дуванског дима", "Очишћен ваздух за дисање", "Безбедна вода за пиће", "Baby friendly" - програм у сарадњи са УНИЦЕФ-ом, сарадња Светске здравствене организације у интернационалном програму на "Хемијској безбедности"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39640" y="1125360"/>
            <a:ext cx="7570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 би се активности земаља у области здравља и међународне здравствене сарадње координирале, интезивирале и успешно спроводиле, током 20. века оснивају се бројне међународне организације које се директно или индиректно баве здрављ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b9899"/>
                </a:solidFill>
                <a:latin typeface="Georgia"/>
              </a:rPr>
              <a:t>Достигнућа СЗО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324000" y="836640"/>
          <a:ext cx="8569080" cy="6021360"/>
        </p:xfrm>
        <a:graphic>
          <a:graphicData uri="http://schemas.openxmlformats.org/drawingml/2006/table">
            <a:tbl>
              <a:tblPr/>
              <a:tblGrid>
                <a:gridCol w="1720800"/>
                <a:gridCol w="6848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ирени програм имунизације за заштиту деце од полиомијелитиса, малих богиња, дифтерије, великог кашља, тетануса и тб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олуц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ација о примарној здравственој зашти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lma-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лашена ерадикација великих богиња, чији је последњи случај регистрован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Етиопиј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а стратег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 развоја вакц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ља о унапређењу здрав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и програм за АИД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у 21. в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b9899"/>
                </a:solidFill>
                <a:latin typeface="Georgia"/>
              </a:rPr>
              <a:t>Друге организације које се баве међународном здравственом сарадњом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24000" y="1052640"/>
          <a:ext cx="8640720" cy="5486400"/>
        </p:xfrm>
        <a:graphic>
          <a:graphicData uri="http://schemas.openxmlformats.org/drawingml/2006/table">
            <a:tbl>
              <a:tblPr/>
              <a:tblGrid>
                <a:gridCol w="4336920"/>
                <a:gridCol w="2154240"/>
                <a:gridCol w="214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 осни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ш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C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народни фонд Уједињених нација за помоћ де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Њујор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заштитом здравља радника и предлаже мере за остваривање њихове здравствене и социјалне сигурнос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national Labour Organiz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проблемима исхране и болестима које се преносе хр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ја за просвету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спитање и школовање здравствених радник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H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комесаријат Уједињених нација за избегл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620640"/>
            <a:ext cx="85345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е нације, УН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б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у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обал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ењ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ђуј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међународ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глоб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бедн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економск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социј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нак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34520" cy="5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Уједињене нациј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Generalna skupština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avet bezbednosti UN (5+10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Ekonomski i socijaln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ateljsk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ekretarija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Međunarodni sud prav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Tela agencija (UNWTO, UNICEF, UNCHR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Calibri"/>
                <a:ea typeface="Calibri"/>
              </a:rPr>
              <a:t>Актив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уж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оруж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сиј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ск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разу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64728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рганиз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их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з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бразовање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ук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и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култур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UNESCO</a:t>
            </a:r>
            <a:br>
              <a:rPr sz="36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01320" y="2060640"/>
            <a:ext cx="850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 изградњи мира, смањењу сиромаштва,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сању одрживог развоја и интеркултуралног дијалога кроз образовање, науку, културу, комуникацију и информисањ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жава листу места светске прородне и културне баштин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1898a"/>
                </a:solidFill>
                <a:latin typeface="Calibri"/>
                <a:ea typeface="Calibri"/>
              </a:rPr>
              <a:t>Међународни фонд Уједињених нација за помоћ деци</a:t>
            </a:r>
            <a:r>
              <a:rPr b="0" lang="sr-Latn-RS" sz="3200" spc="-1" strike="noStrike">
                <a:solidFill>
                  <a:srgbClr val="61898a"/>
                </a:solidFill>
                <a:latin typeface="Calibri"/>
                <a:ea typeface="Calibri"/>
              </a:rPr>
              <a:t>,UNICEF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младин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и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валитет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њихов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дар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бровољ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оз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р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ђа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Calibri"/>
                <a:ea typeface="Calibri"/>
              </a:rPr>
              <a:t>Организација за храну и пољопривреду,  FAO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генција организације уједињених нација за исхрану и пољопривреду основана 1945.год како би побољшла производњу пољопривредних добара и квалитет исхране на глобалном ниво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Међународн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организациј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рада</a:t>
            </a:r>
            <a:r>
              <a:rPr b="1" lang="sr-Latn-CS" sz="3600" spc="-1" strike="noStrike">
                <a:solidFill>
                  <a:srgbClr val="61898a"/>
                </a:solidFill>
                <a:latin typeface="Times New Roman"/>
              </a:rPr>
              <a:t>, 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IL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цијализована агенц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ја промовише социјалну правду и међународно призн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људска и радничка пр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ше међународне стандард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да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боду удруживања, право 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ње, колективно преговар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кидање принудног рада једна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ужа техничку помоћ: стручно образовање и стручна рехабилитација; политика запошљавања; администрација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игурност и заштита на рад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Georgia"/>
              </a:rPr>
              <a:t>Црвени крст, Red cros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24000" y="1483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539640" y="1413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86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Женеви 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датком да у ратн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ма помаже здравствен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ужб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нива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Henry Dyn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гословенски Црвени кр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 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5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Цети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Србиј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6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Српско друштво Црвеног крста, иницијатива др Владана Ђорђевића.   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Дефинисање основних појмо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01320" y="1341360"/>
            <a:ext cx="8504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-друштве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и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 свес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ивање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к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ординира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тивност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тварили тач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еђе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иљев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е организације - трајни облици институционализованог деловања основани вишестраним уговорима три или више држава, с посебним статусом или сталним органима, у оквиру којих се одвијају процеси мултилатералног преговарања и заједничког одлучивања чланица у одговарајућим областима међународне сарадњ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46b86"/>
                </a:solidFill>
                <a:latin typeface="Georgia"/>
              </a:rPr>
              <a:t>Делатност Црвеног крст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24000" y="112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ff0000"/>
                </a:solidFill>
                <a:latin typeface="Calibri"/>
                <a:ea typeface="Calibri"/>
              </a:rPr>
              <a:t>ХУМАНИТАРНА ПОМОЋ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рвени крст Србије као невладин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 организација ј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редни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дистрибуцији помоћи од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натора до крајњи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ника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СОЦИЈАЛНА ДЕЛАТНОСТ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игу о дец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ужање помоћи домаћем социјално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угроженом становништ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тале врсте помоћ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  <a:ea typeface="Calibri"/>
              </a:rPr>
              <a:t>ЗДРАВСТВЕНА ДЕЛАТН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вентивом,саветодавним радом и едукациј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5" name="Picture 3" descr="http://www.izjzkg.rs/images/stories/promoter33.JPG"/>
          <p:cNvPicPr/>
          <p:nvPr/>
        </p:nvPicPr>
        <p:blipFill>
          <a:blip r:embed="rId1"/>
          <a:stretch/>
        </p:blipFill>
        <p:spPr>
          <a:xfrm>
            <a:off x="4788000" y="1341360"/>
            <a:ext cx="4105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http://zzzzsns.co.rs/wp-content/uploads/2013/12/kalendar-zdravlja3.jpg"/>
          <p:cNvPicPr/>
          <p:nvPr/>
        </p:nvPicPr>
        <p:blipFill>
          <a:blip r:embed="rId2"/>
          <a:stretch/>
        </p:blipFill>
        <p:spPr>
          <a:xfrm>
            <a:off x="971640" y="333360"/>
            <a:ext cx="734544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539640" y="1125000"/>
            <a:ext cx="757080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дња подразумева једну или више 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превенцији, дијагнози и третману болести које траже комбинована разматрања и акције више од једне земљ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539640" y="259920"/>
            <a:ext cx="75708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3200" spc="-1" strike="noStrike">
                <a:solidFill>
                  <a:srgbClr val="88a1ad"/>
                </a:solidFill>
                <a:latin typeface="Calibri"/>
                <a:ea typeface="Calibri"/>
              </a:rPr>
              <a:t>Функције међународних организациј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 и контрола болести које представљају регионалне или глобалне претње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 дијалог, промоција истраживања и технолошког развоја у вези са здравственим проблемима који имају глаобални значај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стандарда и норми за међународну сертификацију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а међународних избеглица и расељеног становниш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ступање екстремно осетљивих популација које немају властите ресурс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0" y="-458640"/>
            <a:ext cx="9144000" cy="70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sr-CS" sz="3200" spc="-1" strike="noStrike">
                <a:solidFill>
                  <a:srgbClr val="88a1ad"/>
                </a:solidFill>
                <a:latin typeface="Calibri"/>
                <a:ea typeface="Calibri"/>
              </a:rPr>
              <a:t>Акције у оквиру међународне здравствене сарадње</a:t>
            </a:r>
            <a:r>
              <a:rPr b="0" lang="sr-Latn-CS" sz="3200" spc="-1" strike="noStrike">
                <a:solidFill>
                  <a:srgbClr val="88a1ad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 eпидемија и заразних болести које погађају више од једне земље, укључујући и размену информација о инциденцији епидемијских болести и обезбеђивање униформисаности у карантинским регулативима и медицинским документи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 размена медицинских и здравствених информација и искустава укључујући научне базе података, усавршавања, студијска путовања, публикације и обезбеђење литератур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стандардизација виталне статистике, биолошких препарата, опасних дрога и с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 земљама у разво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вети владама и министарствима здравља у вези са здравственим питањима од међународног значаја као што су маларија, АИДС, хеморагична грозница и др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и аспекти међународне контроле злоупотреба дрога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838. године, у Цариграду,"Међународни здравствени савет" - са задатком да усклади пограничну заштиту од куге и колере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ва Међународна здравствена конференција, одржана је 1851. године у Паризу, - тема: "Сузбијање заразних болести". Прихваћена је међународна конвенција о карантину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892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санитар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нвенција о мерама за спречавање и сузбијање колер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2.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еђународни санитарни бир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ји прераста у Панамеричку санитарну организацију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7. године у Паризу, основан је "Међународни уред за јавну хигијену", са Одељењем за регистровање заразних болести и брзо пружање информација о њиховој појави и ширењу. Уред се 1950. године укључио у Светску здравствену организацију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88a1ad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1921. године значајан помак у развоју организоване бриге о здрављу – на глобалном нивоу основана "Здравствена организација лиге народа"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ед све земље света поставља се проблематика превентивне и социјалне медицин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ове идеје: о улози лекара; о рационалном начину исхране људи; о сузбијању акутних и хроничних масовних обољења; о утицају социјално - економских фактора на здравље популације. Значајан је рад у борби против злоупотребе опојних дрога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  <a:ea typeface="Calibri"/>
              </a:rPr>
              <a:t>Светска здравствена организација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(СЗО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946 год, Њујорк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конференција о здрављу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договор о оснивању међународне специјализоване агенције Уједињених нација  са циљем унапређења здравља у све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579600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8028000" y="378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47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1:20Z</dcterms:modified>
  <cp:revision>203</cp:revision>
  <dc:subject/>
  <dc:title>PROMOCIJA ZDRAVLJA</dc:title>
</cp:coreProperties>
</file>