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1134-B837-4B37-95EF-D1234614D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7764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118B-25AC-48B4-AAEA-606AF0307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5F62-68BE-48AE-BC5B-984DAA98E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6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7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6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7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63B3-6427-4BB2-B337-75A1F85C9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C2893-0082-4392-B028-5515CC2A00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4C71C-2360-4259-ADB2-9A95ACCEFA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8FE8-48FF-436F-B192-20C881BDB1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5B66C-010B-4768-AFE6-0F59CA2CBB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694CC-3129-4961-8839-25EA0455AE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150840"/>
            <a:ext cx="6867360" cy="74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2DC8-E176-4E7D-9960-38B96A7F5F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F7486-797F-453E-9373-3A8532D264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4D57-A810-45A8-BF57-3E04F33DA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7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98FC-BE39-42F4-A7EA-63FAA38D92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6DD1-4ED4-4588-ABAE-A44DDEF0AA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97764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5203-034C-4C3B-A09B-75866F45F5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7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78CC-AE78-4AA7-BA0D-6A2C60F7F1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6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7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6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7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B1A1-F1FF-4BC7-AEE8-793CF2B0E9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F84B-24B1-43EB-B74C-52EEB4EAF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4BAF-E65D-4469-B64A-1EAD7C68E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B5C6-30E6-48E3-88E4-1B9C67372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0840"/>
            <a:ext cx="6867360" cy="74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9877-6201-40A8-9EE0-CD0BE5F1D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0FCE-6AF3-48D7-98AC-E28B979F4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81ED-183C-4BC8-BDAB-FE9AADA87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99DA-4A32-4BC6-9083-18787B85B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AF83E-226D-445B-981B-E9E6E587B2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0000">
            <a:off x="7863480" y="2556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0000">
            <a:off x="7829640" y="192960"/>
            <a:ext cx="1025640" cy="157176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1280" cy="1243080"/>
            <a:chOff x="7920" y="5540400"/>
            <a:chExt cx="1781280" cy="124308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5480" cy="10270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09440" cy="20160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4240" cy="6476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0160" cy="590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0960" cy="18900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17360" cy="174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3120" cy="60480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4560" cy="2728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4440" cy="10332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1280" cy="1235160"/>
              <a:chOff x="7920" y="5540400"/>
              <a:chExt cx="1781280" cy="123516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66880" cy="1121040"/>
                <a:chOff x="792000" y="5654520"/>
                <a:chExt cx="866880" cy="112104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6240" cy="1350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79280" cy="20808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5160" cy="1828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1400" cy="3938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4120" cy="231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7040" cy="3744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1280" cy="1073160"/>
                <a:chOff x="7920" y="5540400"/>
                <a:chExt cx="1781280" cy="107316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5920" cy="13464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3440" cy="6955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3840" cy="26172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07960" cy="9396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49040" cy="3970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6360" cy="21132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4480" cy="33336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5560" cy="1335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2320" cy="4305240"/>
            <a:chOff x="8680320" y="2116080"/>
            <a:chExt cx="382320" cy="430524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2560" cy="226224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080" y="2116080"/>
              <a:ext cx="322200" cy="25891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6541200" y="-198720"/>
            <a:ext cx="3686040" cy="3529440"/>
            <a:chOff x="6541200" y="-198720"/>
            <a:chExt cx="3686040" cy="3529440"/>
          </a:xfrm>
        </p:grpSpPr>
        <p:grpSp>
          <p:nvGrpSpPr>
            <p:cNvPr id="39" name=""/>
            <p:cNvGrpSpPr/>
            <p:nvPr/>
          </p:nvGrpSpPr>
          <p:grpSpPr>
            <a:xfrm>
              <a:off x="6541200" y="-198720"/>
              <a:ext cx="3686040" cy="3529440"/>
              <a:chOff x="6541200" y="-198720"/>
              <a:chExt cx="3686040" cy="3529440"/>
            </a:xfrm>
          </p:grpSpPr>
          <p:sp>
            <p:nvSpPr>
              <p:cNvPr id="40" name=""/>
              <p:cNvSpPr/>
              <p:nvPr/>
            </p:nvSpPr>
            <p:spPr>
              <a:xfrm rot="18420000">
                <a:off x="8618040" y="1726920"/>
                <a:ext cx="95400" cy="45396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6541200" y="-198720"/>
                <a:ext cx="3686040" cy="3529440"/>
                <a:chOff x="6541200" y="-198720"/>
                <a:chExt cx="3686040" cy="3529440"/>
              </a:xfrm>
            </p:grpSpPr>
            <p:sp>
              <p:nvSpPr>
                <p:cNvPr id="42" name=""/>
                <p:cNvSpPr/>
                <p:nvPr/>
              </p:nvSpPr>
              <p:spPr>
                <a:xfrm rot="18420000">
                  <a:off x="7635600" y="-68400"/>
                  <a:ext cx="435240" cy="27288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0000">
                  <a:off x="7777440" y="787320"/>
                  <a:ext cx="770760" cy="96624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0000">
                  <a:off x="7281360" y="509040"/>
                  <a:ext cx="1450440" cy="198612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0000">
                  <a:off x="7294320" y="79200"/>
                  <a:ext cx="2179080" cy="297324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0000">
                  <a:off x="8362080" y="2314080"/>
                  <a:ext cx="481320" cy="26424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0000">
                  <a:off x="8259480" y="2059200"/>
                  <a:ext cx="517680" cy="3132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0000">
                  <a:off x="7665480" y="341640"/>
                  <a:ext cx="517680" cy="3214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0000">
                  <a:off x="7586640" y="140040"/>
                  <a:ext cx="511200" cy="3013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3720" cy="14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5120" y="235080"/>
            <a:ext cx="3784680" cy="1774800"/>
            <a:chOff x="195120" y="235080"/>
            <a:chExt cx="3784680" cy="1774800"/>
          </a:xfrm>
        </p:grpSpPr>
        <p:sp>
          <p:nvSpPr>
            <p:cNvPr id="89" name=""/>
            <p:cNvSpPr/>
            <p:nvPr/>
          </p:nvSpPr>
          <p:spPr>
            <a:xfrm>
              <a:off x="281160" y="281160"/>
              <a:ext cx="3568680" cy="16110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3520" y="414360"/>
              <a:ext cx="3559320" cy="1595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00" y="546120"/>
              <a:ext cx="2359080" cy="1455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95120" y="235080"/>
              <a:ext cx="3784680" cy="1712880"/>
              <a:chOff x="195120" y="235080"/>
              <a:chExt cx="3784680" cy="1712880"/>
            </a:xfrm>
          </p:grpSpPr>
          <p:sp>
            <p:nvSpPr>
              <p:cNvPr id="93" name=""/>
              <p:cNvSpPr/>
              <p:nvPr/>
            </p:nvSpPr>
            <p:spPr>
              <a:xfrm>
                <a:off x="3182760" y="1482840"/>
                <a:ext cx="333720" cy="3366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120" y="235080"/>
                <a:ext cx="3784680" cy="17128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14440" y="250920"/>
                <a:ext cx="2673360" cy="971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9440" y="398520"/>
                <a:ext cx="357120" cy="647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43160" y="851040"/>
                <a:ext cx="1093680" cy="5745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7610040" y="4128480"/>
            <a:ext cx="1360080" cy="1533960"/>
            <a:chOff x="7610040" y="4128480"/>
            <a:chExt cx="1360080" cy="1533960"/>
          </a:xfrm>
        </p:grpSpPr>
        <p:sp>
          <p:nvSpPr>
            <p:cNvPr id="99" name=""/>
            <p:cNvSpPr/>
            <p:nvPr/>
          </p:nvSpPr>
          <p:spPr>
            <a:xfrm rot="7320000">
              <a:off x="7794000" y="4657320"/>
              <a:ext cx="995400" cy="4618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7320000">
              <a:off x="7773120" y="4637880"/>
              <a:ext cx="992160" cy="457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7320000">
              <a:off x="7939800" y="4624920"/>
              <a:ext cx="657000" cy="417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610040" y="4128480"/>
              <a:ext cx="1360080" cy="1533960"/>
              <a:chOff x="7610040" y="4128480"/>
              <a:chExt cx="1360080" cy="1533960"/>
            </a:xfrm>
          </p:grpSpPr>
          <p:sp>
            <p:nvSpPr>
              <p:cNvPr id="103" name=""/>
              <p:cNvSpPr/>
              <p:nvPr/>
            </p:nvSpPr>
            <p:spPr>
              <a:xfrm rot="7320000">
                <a:off x="7723440" y="5090040"/>
                <a:ext cx="112320" cy="1479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7320000">
                <a:off x="7628040" y="4506840"/>
                <a:ext cx="1323360" cy="7768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320000">
                <a:off x="8015040" y="4670640"/>
                <a:ext cx="936360" cy="4370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320000">
                <a:off x="8662320" y="4447440"/>
                <a:ext cx="122040" cy="29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320000">
                <a:off x="8126280" y="4696920"/>
                <a:ext cx="380160" cy="2566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993DF-3590-49AF-93F1-0302D09DB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49440" y="2852640"/>
            <a:ext cx="603252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ЕЂУНАРОДН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АСИФИКАЦИЈА БОЛЕСТ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MK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4149720"/>
            <a:ext cx="288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8580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1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754200" y="596880"/>
            <a:ext cx="7489800" cy="546120"/>
          </a:xfrm>
          <a:custGeom>
            <a:avLst/>
            <a:gdLst/>
            <a:ahLst/>
            <a:rect l="l" t="t" r="r" b="b"/>
            <a:pathLst>
              <a:path w="8238743" h="618743">
                <a:moveTo>
                  <a:pt x="8238743" y="19812"/>
                </a:moveTo>
                <a:lnTo>
                  <a:pt x="8238743" y="0"/>
                </a:lnTo>
                <a:lnTo>
                  <a:pt x="0" y="0"/>
                </a:lnTo>
                <a:lnTo>
                  <a:pt x="0" y="618743"/>
                </a:lnTo>
                <a:lnTo>
                  <a:pt x="19812" y="618743"/>
                </a:lnTo>
                <a:lnTo>
                  <a:pt x="19812" y="19811"/>
                </a:lnTo>
                <a:lnTo>
                  <a:pt x="9143" y="19812"/>
                </a:lnTo>
                <a:lnTo>
                  <a:pt x="19812" y="9144"/>
                </a:lnTo>
                <a:lnTo>
                  <a:pt x="8238743" y="1981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415800" y="403200"/>
            <a:ext cx="8312400" cy="6051600"/>
          </a:xfrm>
          <a:custGeom>
            <a:avLst/>
            <a:gdLst/>
            <a:ahLst/>
            <a:rect l="l" t="t" r="r" b="b"/>
            <a:pathLst>
              <a:path w="9143999" h="6857999">
                <a:moveTo>
                  <a:pt x="9143999" y="3428999"/>
                </a:moveTo>
                <a:lnTo>
                  <a:pt x="0" y="3428999"/>
                </a:lnTo>
                <a:lnTo>
                  <a:pt x="0" y="6857999"/>
                </a:lnTo>
                <a:lnTo>
                  <a:pt x="9143999" y="6857999"/>
                </a:lnTo>
                <a:lnTo>
                  <a:pt x="9143999" y="34289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977760" y="792000"/>
            <a:ext cx="73663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3362"/>
              </a:lnSpc>
              <a:spcBef>
                <a:spcPts val="176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vizije Međunarodne klasifikacije bolesti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vreda i uzroka smrti, MK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ts val="1962"/>
              </a:lnSpc>
              <a:spcBef>
                <a:spcPts val="1261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0. – Prva međunarodna konferencija za reviziju Bertijonove liste uzroka smrti.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 klasifikacija uzroka smrti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716040" y="1895400"/>
            <a:ext cx="1778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1463"/>
              </a:lnSpc>
              <a:spcBef>
                <a:spcPts val="74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027080" y="2379600"/>
            <a:ext cx="6620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9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0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spcBef>
                <a:spcPts val="99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9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spcBef>
                <a:spcPts val="99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8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689120" y="2379600"/>
            <a:ext cx="1533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 algn="just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 algn="just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 Međunarodna 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232080" y="2379600"/>
            <a:ext cx="13842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 algn="just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 algn="just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 konferencija 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4624560" y="2379600"/>
            <a:ext cx="2934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 algn="just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 algn="just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za 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4927680" y="2379600"/>
            <a:ext cx="12128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 algn="just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reviziju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 algn="just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reviziju IV reviziju V reviziju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16040" y="2452680"/>
            <a:ext cx="1778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1463"/>
              </a:lnSpc>
              <a:spcBef>
                <a:spcPts val="74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86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86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1027080" y="3618000"/>
            <a:ext cx="662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8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689120" y="3618000"/>
            <a:ext cx="1539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3232080" y="36180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4624560" y="3618000"/>
            <a:ext cx="29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4927680" y="3618000"/>
            <a:ext cx="2981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reviziju.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16040" y="3689280"/>
            <a:ext cx="1778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1463"/>
              </a:lnSpc>
              <a:spcBef>
                <a:spcPts val="74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1027080" y="3865680"/>
            <a:ext cx="4986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ifikacija bolesti, povreda i uzroka smrti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027080" y="4173480"/>
            <a:ext cx="662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5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5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spcBef>
                <a:spcPts val="99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5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1689120" y="4173480"/>
            <a:ext cx="15462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spcBef>
                <a:spcPts val="99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232080" y="4173480"/>
            <a:ext cx="13892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 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4624560" y="4173480"/>
            <a:ext cx="298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4927680" y="4173480"/>
            <a:ext cx="1400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reviziju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reviziju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spcBef>
                <a:spcPts val="99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 reviziju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716040" y="4246560"/>
            <a:ext cx="1778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1463"/>
              </a:lnSpc>
              <a:spcBef>
                <a:spcPts val="74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86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86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1027080" y="5102280"/>
            <a:ext cx="6620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9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689120" y="5102280"/>
            <a:ext cx="1539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3232080" y="5102280"/>
            <a:ext cx="13892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4624560" y="5102280"/>
            <a:ext cx="2984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4927680" y="5102280"/>
            <a:ext cx="28922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reviziju.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1027080" y="5349960"/>
            <a:ext cx="3605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čka klasifikacija bolesti i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4635360" y="5349960"/>
            <a:ext cx="2681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ravstvenih problem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4360" y="549360"/>
            <a:ext cx="7696080" cy="63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енутно је у употреби X ревизија Међународне класификације  боле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2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сета ревизија MKБ усвојена је на  43.скупштини СЗО 17.маја 1990. са ступањем на снагу 01.01.1993.год. и обавезна је за све чланице СЗ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авезна примена ове   класификације у СРЈ је од 01.01.1997.го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-63360"/>
            <a:ext cx="68706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сновни критеријуми за класификациј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413000"/>
            <a:ext cx="76960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Етиологија обољењ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инфективне и паразитарне болести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Анатомска локализација или системи органа где се јавља болес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нпр. болести респираторног система, болестциркулаторног система, итд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Морфологиј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неоплазме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Околности почетка болести или узрока смрт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Е-листа или спољни узроци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</a:rPr>
              <a:t>Десета MKБ има 21 групу болести</a:t>
            </a:r>
            <a:r>
              <a:rPr b="0" lang="en-US" sz="24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4000" y="836640"/>
            <a:ext cx="77724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6600" indent="-6066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Десета ревизија користи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четворомесне алфанумеричке шифр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са словом на првом и бројем на другом, трећем и четвртом месту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Четврто место налази се иза децималне тачке A16.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За међународна извештавања (према СЗО) користе се тромесне шифре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Шифре се крећу од A00.0 do Z99.9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836640"/>
            <a:ext cx="769608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ви знак (прво место) MKБ шифре је слово. За словну ознаку узета је енглеска абецеда, а свако слово означава одређену групу болести, изузе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ова D које се користи у Групи II (Тумори) и Групи III (Болести крви и болести крвотворних органа и поремећаја имунитета) 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ова H koje се користи у Групи VII (Болести ока и припоја ока) i Групи VIII (Болести ува и болести мастоидног наставк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етири групе  (Групе I, II, XIX i XX) користе више од једног слова на првом мес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492360" y="2924280"/>
            <a:ext cx="2641680" cy="1441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20.0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1828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990000" y="914400"/>
            <a:ext cx="3638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лово - Oзначава припаднос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ијагностичком поглављ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1700280"/>
            <a:ext cx="11509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2122200" y="5084640"/>
            <a:ext cx="4356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значава дијагностичку категориј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556000" y="3654360"/>
            <a:ext cx="1635120" cy="14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6403320" y="1371600"/>
            <a:ext cx="17733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значава тип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ремећај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008760" y="2421000"/>
            <a:ext cx="5824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112680"/>
            <a:ext cx="687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КБ-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996840"/>
            <a:ext cx="746784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19040" indent="-379440" algn="ctr">
              <a:spcBef>
                <a:spcPts val="7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Неупотребљена шифра “U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7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7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7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64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за привремену доделу новим болестима непознате етиологије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64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ove MKB-10 šifre za COVID-19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64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•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07.1 COVID-19, identifikovan viru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64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07.2 COVID-19, nije identifikovan viru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660840" y="1628640"/>
            <a:ext cx="150012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4360" y="981000"/>
            <a:ext cx="769608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во U се не кори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Шифре U00-U49 користиће се за шифрирање нових болести непознате етиологиј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Шифре U50-U99 могу се користити код истраживањ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19928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злике између IX и X ревизија Међународн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ласификације болести, повреда и узрока смр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413000"/>
            <a:ext cx="791856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ts val="3135"/>
              </a:lnSpc>
              <a:spcBef>
                <a:spcPts val="162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ке болести су из једне прешле у другу груп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болести крви и крвотворних органа и поремећаји имунитета; тумори; деле слов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ts val="3135"/>
              </a:lnSpc>
              <a:spcBef>
                <a:spcPts val="162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здвајање неких груп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обољења нервног система и чула: болести нервог система 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болести ока и припојака ока и болести ува и боле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стоидног наставка – 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ts val="3135"/>
              </a:lnSpc>
              <a:spcBef>
                <a:spcPts val="162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ђање због повезаности у настајању патолошког процеса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IV до  XVI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групе: болести мокраћно-полног система, трудноћа, рађање и бабиње, и стања у порођајном  периоду, урођене наказности, деформације и хромозомске ненормалости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ts val="3135"/>
              </a:lnSpc>
              <a:spcBef>
                <a:spcPts val="162"/>
              </a:spcBef>
              <a:buClr>
                <a:srgbClr val="7030a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упно 21. група болес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0"/>
          <a:ext cx="8497800" cy="6858000"/>
        </p:xfrm>
        <a:graphic>
          <a:graphicData uri="http://schemas.openxmlformats.org/drawingml/2006/table">
            <a:tbl>
              <a:tblPr/>
              <a:tblGrid>
                <a:gridCol w="1714680"/>
                <a:gridCol w="4910040"/>
                <a:gridCol w="1873080"/>
              </a:tblGrid>
              <a:tr h="2840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зне и паразитарне боле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00-B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м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крви и болести крвотворних органа и поремећаја имуните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жлезда са унутрашњим лучењем, исхране и метаболиз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00-E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шевни поремећаји и поремећаји понашањ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нервног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ока и припоја 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I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ува и болести мастоидног настав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система крвот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система за дисањ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система за варењ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коже и болести поткожног тк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мишићно-коштаног система и везивног тк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-M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мокраћно-полног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ноћа, рађање и бабињ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ња у порођајном пери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V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ђене наказности, деформације и хромозомске ненормал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VI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и, знаци и патолошки клинички и лабораторијски нал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еде, тровања и последице деловања спољних факт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љашњи узроци обољевања и умирањ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обраћајни удес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 спољашњи узроци повређивањ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икације медицинског и хирушког лечењ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01-Y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01-V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00-X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40-Y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X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и који утичу на здравствено стање и контакт са здравственом служб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00-Z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0" y="86662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765000"/>
            <a:ext cx="820728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КБ-10 је међународна класификација болести и сродних здравствених проблем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C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(International Classification of Diseases and Related Health Proble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здајеје Светска здравствена организациј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79640" y="3252960"/>
            <a:ext cx="518472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15228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lnSpc>
                <a:spcPct val="150000"/>
              </a:lnSpc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00 - К93 Bolesti sistema za varen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lnSpc>
                <a:spcPct val="150000"/>
              </a:lnSpc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00- K14 Bolesti usne šupljine, pljuvačnih žlezda I vil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4360" y="33336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Bolesti usta, pljuvačnih žlezda i vilica (K00-K14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 Poremećaji razvoja i nicanja zuba - Disordines evolutionis et eruptionis denti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0 Urođeni nedostatak zuba - Anodont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1 Prekobrojni zubi - Dentes supernumerari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2 Nepravilan oblik i veličina zuba - Magnitudo et forma dentium abnormal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3 Šareni zubi - Dentes versicol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4 Poremećaji stvaranja zuba - Disordines formationis denti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5 Nasledne anomalije strukture zuba - Anomaliae structurae dentium congenita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6 Poremećaji nicanja zuba - Disordines eruptionis denti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7 Sindrom izbijanja zuba - Syndroma dentition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8 Drugi poremećaji razvoja zuba - Disordines evolutionis dentium ali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ernational Classification of Diseases (IC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who.int/classifications/icd/en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4360" y="-54000"/>
            <a:ext cx="6870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Четворомесне дијагностичке поткатегори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268280"/>
            <a:ext cx="8280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ако нису обавезне за пријавњивање на међународном нивоу, већина тромесних категорија је подељена помоћу четврте, нумеричке ознаке после децималне тачке, до десет поткатегориј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23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броћудни тумори кож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0      Доброћудни тумори коже усн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1      Доброћудни тумори коже капка о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2     Доброћудни тумори коже у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3     Доброћудни тумори коже других делова лиц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4     Доброћудни тумори коже вра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5     Доброћудни тумори коже труп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6     Доброћудни тумори коже рук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7     Доброћудни тумори коже ног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9     Доброћудни тумори коже неозначе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111240"/>
            <a:ext cx="7088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воструко шифрирање неких дијагноза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истем крстића и звездиц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1828800"/>
            <a:ext cx="769608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Многе исте дијагнозе имају двоструко шифрирање, обележено са + i *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+(крстић) означава етиологију болести;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*(звездица) означава локализацију, односно оболели орган, односно систем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74.0+         Conjunctivitis chlamydialis  (H13.1*)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39.0+         Meningitis meningococcica   (G01*)     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B25.0+         Pneumonitis cytomegaloviralis (J17.1*)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184464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ЛАСИФИКАЦИЈА БОЛЕСТИ ЈЕ СИСТЕМ КАТЕГОРИЈА ГДЕ СЕ ОБОЉЕЊА СВРСТАВАЈУ ПРЕМА УТВРЂЕНИМ КРИТЕРИЈУМИ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03640" y="407664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1413000"/>
            <a:ext cx="7696080" cy="40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KБ СЕ КОРИСТИ ЗА ПРЕВОЂЕЊЕ ДИЈАГНОЗА БОЛЕСТИ И ДРУГИХ ЗДРАВСТВЕНИХ ПРОБЛЕМА СА РЕЧИ У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АЛФАНУМЕРИЧКУ ШИФРУ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ШТО ОМОГУЋАВА ЈЕДИНСТВЕНО ЧУВАЊЕ, ПОНОВНО ПРОНАЛАЖЕЊЕ И АНАЛИЗУ ПОДАТА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1557360"/>
            <a:ext cx="76960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ИЉ МЕЂУНАРОДНЕ KЛАСИФИКАЦИЈЕ БОЛЕСТИ (MKБ) ЈЕ ДА ОМОГУЋИ СИСТЕМАТСКО ПРАЋЕЊЕ, АНАЛИЗУ, ТУМАЧЕЊЕ И ПОРЕЂЕЊЕ ПРИКУПЉЕНИХ ПОДАТАКА О СМРТНОСТИ И ОБОЉЕВАЊУ У РАЗЛИЧИТИМ ЗЕМЉАМА ИЛИ РЕГИОНИМА И ЗА РАЗЛИЧИТ ВРЕМЕНСКИ ПЕРИО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50840"/>
            <a:ext cx="6870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413000"/>
            <a:ext cx="769608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Употреба четворознаковне шифре МКБ-је боља и прецизнија од дијагнозе на латинском или неком другом језику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spcBef>
                <a:spcPts val="9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476280"/>
            <a:ext cx="769608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треба и значај класификовања болести, повреда и узрока смрти запаженa је знатно пре него што је усвојена прва међународна класификациј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чеци класификације датирају из XVIII века, али су то били појединачни покушаји (Far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856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d,Espine) израде класификациј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9640" y="620640"/>
            <a:ext cx="791208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I Mеђународној конференцији (у Паризу 1900.) прихваћена је I Mеђународна класификација узрока смр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бог сталних промена фактора животне околине, напретка медицинске науке и нових открића у медицини, било је потребно извршити ревизије MKБ-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I Mеђународној конференцији у Паризу договорено је да се ревизија врши      сваких10 год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836640"/>
            <a:ext cx="769608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е до 1948. (до VI ревизије), међународне класификације болести односиле су се само на узроке смрти, a од VI ревизије (1948.) и на класификацију боле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еђународна класификација примењује се у Југославији од 1959. год. (Шеста ревизиј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02:43:18Z</dcterms:created>
  <dc:creator>Dejana</dc:creator>
  <dc:description/>
  <dc:language>en-US</dc:language>
  <cp:lastModifiedBy>Majda</cp:lastModifiedBy>
  <dcterms:modified xsi:type="dcterms:W3CDTF">2020-09-18T17:30:32Z</dcterms:modified>
  <cp:revision>85</cp:revision>
  <dc:subject/>
  <dc:title>PROMOCIJA ZDRAVLJA</dc:title>
</cp:coreProperties>
</file>